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30.wmf" ContentType="image/x-wmf"/>
  <Override PartName="/ppt/media/image56.jpeg" ContentType="image/jpeg"/>
  <Override PartName="/ppt/media/image55.png" ContentType="image/png"/>
  <Override PartName="/ppt/media/image53.jpeg" ContentType="image/jpeg"/>
  <Override PartName="/ppt/media/image50.jpeg" ContentType="image/jpeg"/>
  <Override PartName="/ppt/media/image49.wmf" ContentType="image/x-wmf"/>
  <Override PartName="/ppt/media/image6.wmf" ContentType="image/x-wmf"/>
  <Override PartName="/ppt/media/image28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54.png" ContentType="image/png"/>
  <Override PartName="/ppt/media/image15.wmf" ContentType="image/x-wmf"/>
  <Override PartName="/ppt/media/image20.png" ContentType="image/png"/>
  <Override PartName="/ppt/media/image64.gif" ContentType="image/gif"/>
  <Override PartName="/ppt/media/image2.jpeg" ContentType="image/jpeg"/>
  <Override PartName="/ppt/media/image31.png" ContentType="image/png"/>
  <Override PartName="/ppt/media/image14.png" ContentType="image/png"/>
  <Override PartName="/ppt/media/image18.jpeg" ContentType="image/jpeg"/>
  <Override PartName="/ppt/media/image59.gif" ContentType="image/gif"/>
  <Override PartName="/ppt/media/image66.jpeg" ContentType="image/jpeg"/>
  <Override PartName="/ppt/media/image11.png" ContentType="image/png"/>
  <Override PartName="/ppt/media/image48.png" ContentType="image/png"/>
  <Override PartName="/ppt/media/image61.png" ContentType="image/png"/>
  <Override PartName="/ppt/media/image65.wmf" ContentType="image/x-wmf"/>
  <Override PartName="/ppt/media/image32.png" ContentType="image/png"/>
  <Override PartName="/ppt/media/image7.jpeg" ContentType="image/jpeg"/>
  <Override PartName="/ppt/media/image16.png" ContentType="image/png"/>
  <Override PartName="/ppt/media/image60.jpeg" ContentType="image/jpeg"/>
  <Override PartName="/ppt/media/image19.png" ContentType="image/png"/>
  <Override PartName="/ppt/media/image4.gif" ContentType="image/gif"/>
  <Override PartName="/ppt/media/image25.jpeg" ContentType="image/jpeg"/>
  <Override PartName="/ppt/media/image62.wmf" ContentType="image/x-wmf"/>
  <Override PartName="/ppt/media/image22.png" ContentType="image/png"/>
  <Override PartName="/ppt/media/image27.png" ContentType="image/png"/>
  <Override PartName="/ppt/media/image24.gif" ContentType="image/gif"/>
  <Override PartName="/ppt/media/image21.png" ContentType="image/png"/>
  <Override PartName="/ppt/media/image29.jpeg" ContentType="image/jpeg"/>
  <Override PartName="/ppt/media/image1.png" ContentType="image/png"/>
  <Override PartName="/ppt/media/image52.jpeg" ContentType="image/jpeg"/>
  <Override PartName="/ppt/media/image13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63.gif" ContentType="image/gif"/>
  <Override PartName="/ppt/media/image23.wmf" ContentType="image/x-wmf"/>
  <Override PartName="/ppt/media/image51.jpeg" ContentType="image/jpeg"/>
  <Override PartName="/ppt/media/image34.png" ContentType="image/png"/>
  <Override PartName="/ppt/media/image9.jpeg" ContentType="image/jpeg"/>
  <Override PartName="/ppt/media/image33.gif" ContentType="image/gif"/>
  <Override PartName="/ppt/media/image36.png" ContentType="image/png"/>
  <Override PartName="/ppt/media/image37.png" ContentType="image/png"/>
  <Override PartName="/ppt/media/image39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gi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2.xml"/><Relationship Id="rId3" Type="http://schemas.openxmlformats.org/officeDocument/2006/relationships/image" Target="../media/image44.png"/><Relationship Id="rId4" Type="http://schemas.openxmlformats.org/officeDocument/2006/relationships/slide" Target="slide61.xml"/><Relationship Id="rId5" Type="http://schemas.openxmlformats.org/officeDocument/2006/relationships/image" Target="../media/image45.png"/><Relationship Id="rId6" Type="http://schemas.openxmlformats.org/officeDocument/2006/relationships/slide" Target="slide60.xml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" Target="slide68.xml"/><Relationship Id="rId10" Type="http://schemas.openxmlformats.org/officeDocument/2006/relationships/image" Target="../media/image48.png"/><Relationship Id="rId11" Type="http://schemas.openxmlformats.org/officeDocument/2006/relationships/image" Target="../media/image49.wmf"/><Relationship Id="rId1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gi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8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gif"/><Relationship Id="rId3" Type="http://schemas.openxmlformats.org/officeDocument/2006/relationships/image" Target="../media/image64.gif"/><Relationship Id="rId4" Type="http://schemas.openxmlformats.org/officeDocument/2006/relationships/image" Target="../media/image64.gif"/><Relationship Id="rId5" Type="http://schemas.openxmlformats.org/officeDocument/2006/relationships/image" Target="../media/image64.gif"/><Relationship Id="rId6" Type="http://schemas.openxmlformats.org/officeDocument/2006/relationships/image" Target="../media/image64.gif"/><Relationship Id="rId7" Type="http://schemas.openxmlformats.org/officeDocument/2006/relationships/image" Target="../media/image64.gif"/><Relationship Id="rId8" Type="http://schemas.openxmlformats.org/officeDocument/2006/relationships/image" Target="../media/image64.gif"/><Relationship Id="rId9" Type="http://schemas.openxmlformats.org/officeDocument/2006/relationships/image" Target="../media/image64.gif"/><Relationship Id="rId10" Type="http://schemas.openxmlformats.org/officeDocument/2006/relationships/image" Target="../media/image64.gif"/><Relationship Id="rId11" Type="http://schemas.openxmlformats.org/officeDocument/2006/relationships/image" Target="../media/image64.gif"/><Relationship Id="rId12" Type="http://schemas.openxmlformats.org/officeDocument/2006/relationships/image" Target="../media/image64.gif"/><Relationship Id="rId13" Type="http://schemas.openxmlformats.org/officeDocument/2006/relationships/image" Target="../media/image64.gif"/><Relationship Id="rId14" Type="http://schemas.openxmlformats.org/officeDocument/2006/relationships/image" Target="../media/image64.gif"/><Relationship Id="rId1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5.wmf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696080" cy="22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华文新魏"/>
                <a:ea typeface="华文新魏"/>
              </a:rPr>
              <a:t> </a:t>
            </a:r>
            <a:endParaRPr b="0" i="1" lang="en-US" sz="6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3789000"/>
            <a:ext cx="8066160" cy="228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58920" y="2492280"/>
            <a:ext cx="2362320" cy="2244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788000" y="2708280"/>
            <a:ext cx="2895480" cy="1855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16000" y="5157720"/>
            <a:ext cx="727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5084640"/>
            <a:ext cx="748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山东中医药高等专科学校  于丽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58920" y="5805360"/>
            <a:ext cx="352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2483_1165313248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333360"/>
            <a:ext cx="81342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八章   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呼吸系统疾病患儿的护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1216080"/>
            <a:ext cx="253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81000" y="2624040"/>
          <a:ext cx="7277040" cy="2729160"/>
        </p:xfrm>
        <a:graphic>
          <a:graphicData uri="http://schemas.openxmlformats.org/drawingml/2006/table">
            <a:tbl>
              <a:tblPr/>
              <a:tblGrid>
                <a:gridCol w="1008360"/>
                <a:gridCol w="3390480"/>
                <a:gridCol w="2878200"/>
              </a:tblGrid>
              <a:tr h="77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部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特点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临床意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</a:tr>
              <a:tr h="195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9688"/>
                          </a:solidFill>
                          <a:latin typeface="Times New Roman"/>
                          <a:ea typeface="黑体"/>
                        </a:rPr>
                        <a:t>胸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呈桶状，肋骨呈水平位，膈肌位置较高；胸腔较小而肺相对较大，呼吸肌发育差；儿童纵隔相对较大，纵隔周围组织松软、富于弹性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的扩张受到一定的限制，不能充分通气、换气，患病时易发生缺氧发绀；胸腔积液或积气时易致纵隔移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762120" y="19051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（一）解剖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557280"/>
            <a:ext cx="813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第一节  小儿呼吸系统解剖、生理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31480" y="2460600"/>
            <a:ext cx="3498840" cy="4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．呼吸频率和节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14400" y="2362320"/>
          <a:ext cx="7632720" cy="4059000"/>
        </p:xfrm>
        <a:graphic>
          <a:graphicData uri="http://schemas.openxmlformats.org/drawingml/2006/table">
            <a:tbl>
              <a:tblPr/>
              <a:tblGrid>
                <a:gridCol w="1673280"/>
                <a:gridCol w="2147760"/>
                <a:gridCol w="2079720"/>
                <a:gridCol w="1731960"/>
              </a:tblGrid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514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66ff"/>
                          </a:solidFill>
                          <a:latin typeface="黑体"/>
                          <a:ea typeface="黑体"/>
                        </a:rPr>
                        <a:t>各年龄儿童呼吸和脉搏频率比较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呼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（次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分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脉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（次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分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呼吸：脉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688"/>
                          </a:solidFill>
                          <a:latin typeface="黑体"/>
                          <a:ea typeface="黑体"/>
                        </a:rPr>
                        <a:t>新生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~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~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688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9688"/>
                          </a:solidFill>
                          <a:latin typeface="黑体"/>
                          <a:ea typeface="黑体"/>
                        </a:rPr>
                        <a:t>岁以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~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~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~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db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688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9688"/>
                          </a:solidFill>
                          <a:latin typeface="华文新魏"/>
                          <a:ea typeface="华文新魏"/>
                        </a:rPr>
                        <a:t>‾</a:t>
                      </a:r>
                      <a:r>
                        <a:rPr b="1" lang="zh-CN" sz="2800" spc="-1" strike="noStrike">
                          <a:solidFill>
                            <a:srgbClr val="009688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9688"/>
                          </a:solidFill>
                          <a:latin typeface="黑体"/>
                          <a:ea typeface="黑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~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~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~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688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9688"/>
                          </a:solidFill>
                          <a:latin typeface="华文新魏"/>
                          <a:ea typeface="华文新魏"/>
                        </a:rPr>
                        <a:t>‾</a:t>
                      </a:r>
                      <a:r>
                        <a:rPr b="1" lang="zh-CN" sz="2800" spc="-1" strike="noStrike">
                          <a:solidFill>
                            <a:srgbClr val="009688"/>
                          </a:solidFill>
                          <a:latin typeface="黑体"/>
                          <a:ea typeface="黑体"/>
                        </a:rPr>
                        <a:t>7</a:t>
                      </a:r>
                      <a:r>
                        <a:rPr b="1" lang="zh-CN" sz="2800" spc="-1" strike="noStrike">
                          <a:solidFill>
                            <a:srgbClr val="009688"/>
                          </a:solidFill>
                          <a:latin typeface="黑体"/>
                          <a:ea typeface="黑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~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~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d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688"/>
                          </a:solidFill>
                          <a:latin typeface="黑体"/>
                          <a:ea typeface="黑体"/>
                        </a:rPr>
                        <a:t>8</a:t>
                      </a:r>
                      <a:r>
                        <a:rPr b="1" lang="zh-CN" sz="2800" spc="-1" strike="noStrike">
                          <a:solidFill>
                            <a:srgbClr val="009688"/>
                          </a:solidFill>
                          <a:latin typeface="华文新魏"/>
                          <a:ea typeface="华文新魏"/>
                        </a:rPr>
                        <a:t>‾</a:t>
                      </a:r>
                      <a:r>
                        <a:rPr b="1" lang="zh-CN" sz="2800" spc="-1" strike="noStrike">
                          <a:solidFill>
                            <a:srgbClr val="009688"/>
                          </a:solidFill>
                          <a:latin typeface="黑体"/>
                          <a:ea typeface="黑体"/>
                        </a:rPr>
                        <a:t>14</a:t>
                      </a:r>
                      <a:r>
                        <a:rPr b="1" lang="zh-CN" sz="2800" spc="-1" strike="noStrike">
                          <a:solidFill>
                            <a:srgbClr val="009688"/>
                          </a:solidFill>
                          <a:latin typeface="黑体"/>
                          <a:ea typeface="黑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~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~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684360" y="557280"/>
            <a:ext cx="813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第一节  小儿呼吸系统解剖、生理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8288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（二） 生理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09480" y="2514600"/>
            <a:ext cx="6477120" cy="10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．呼吸类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式呼吸    胸腹式呼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3809880"/>
            <a:ext cx="8001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．呼吸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活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潮气量                   均较成人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分钟通气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气体弥散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57280"/>
            <a:ext cx="813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第一节  小儿呼吸系统解剖、生理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82880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（二） 生理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80000" y="4365720"/>
            <a:ext cx="216000" cy="17287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364"/>
                </a:lnTo>
                <a:cubicBezTo>
                  <a:pt x="10800" y="8264"/>
                  <a:pt x="16200" y="9164"/>
                  <a:pt x="21600" y="9164"/>
                </a:cubicBezTo>
                <a:cubicBezTo>
                  <a:pt x="16200" y="9164"/>
                  <a:pt x="10800" y="10064"/>
                  <a:pt x="10800" y="1096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14400" y="2895120"/>
            <a:ext cx="4486320" cy="16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非特异性免疫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特异性免疫功能较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557280"/>
            <a:ext cx="813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第一节  小儿呼吸系统解剖、生理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9810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（三） 免疫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08720" y="1773360"/>
            <a:ext cx="2879640" cy="1800000"/>
          </a:xfrm>
          <a:prstGeom prst="wedgeRoundRectCallout">
            <a:avLst>
              <a:gd name="adj1" fmla="val -82305"/>
              <a:gd name="adj2" fmla="val 20898"/>
              <a:gd name="adj3" fmla="val 16667"/>
            </a:avLst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Arial"/>
                <a:ea typeface="黑体"/>
              </a:rPr>
              <a:t>鼻前庭无鼻毛、气管粘液分泌不足、纤毛运动差、咳嗽反射差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4221000"/>
            <a:ext cx="2879640" cy="2448000"/>
          </a:xfrm>
          <a:prstGeom prst="wedgeRoundRectCallout">
            <a:avLst>
              <a:gd name="adj1" fmla="val -74254"/>
              <a:gd name="adj2" fmla="val -46046"/>
              <a:gd name="adj3" fmla="val 16667"/>
            </a:avLst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分泌型</a:t>
            </a:r>
            <a:r>
              <a:rPr b="0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IgA</a:t>
            </a:r>
            <a:r>
              <a:rPr b="0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低，肺泡巨噬细胞功能不足，乳铁蛋白、溶菌酶、干扰素、补体等数量和活性都不足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3600" y="1028520"/>
            <a:ext cx="5887800" cy="78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第二节  急性上呼吸道感染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657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急性上呼吸道感染系由各种病原体引起的上呼吸道炎症，简称上感，俗称“感冒”，是小儿最常见的疾病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477120" y="4343400"/>
            <a:ext cx="2038320" cy="2104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447920" y="4419720"/>
            <a:ext cx="43196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688"/>
                </a:solidFill>
                <a:latin typeface="Arial"/>
              </a:rPr>
              <a:t>本病</a:t>
            </a:r>
            <a:r>
              <a:rPr b="1" lang="zh-CN" sz="3200" spc="-1" strike="noStrike">
                <a:solidFill>
                  <a:srgbClr val="009688"/>
                </a:solidFill>
                <a:latin typeface="Arial"/>
              </a:rPr>
              <a:t>90%</a:t>
            </a:r>
            <a:r>
              <a:rPr b="1" lang="zh-CN" sz="3200" spc="-1" strike="noStrike">
                <a:solidFill>
                  <a:srgbClr val="009688"/>
                </a:solidFill>
                <a:latin typeface="Arial"/>
              </a:rPr>
              <a:t>以上为病毒感染引起，病毒感染后可继发细菌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2556000" y="1844640"/>
            <a:ext cx="324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2c080"/>
              </a:gs>
              <a:gs pos="50000">
                <a:srgbClr val="ffffff"/>
              </a:gs>
              <a:gs pos="100000">
                <a:srgbClr val="c2c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评估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89080" y="628560"/>
            <a:ext cx="5904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第二节  急性上呼吸道感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0555400">
            <a:off x="-2125440" y="2276280"/>
            <a:ext cx="7274160" cy="7705440"/>
          </a:xfrm>
          <a:custGeom>
            <a:avLst/>
            <a:gdLst>
              <a:gd name="textAreaLeft" fmla="*/ 0 w 7274160"/>
              <a:gd name="textAreaRight" fmla="*/ 7274520 w 7274160"/>
              <a:gd name="textAreaTop" fmla="*/ 0 h 7705440"/>
              <a:gd name="textAreaBottom" fmla="*/ 7705800 h 7705440"/>
            </a:gdLst>
            <a:ahLst/>
            <a:rect l="textAreaLeft" t="textAreaTop" r="textAreaRight" b="textAreaBottom"/>
            <a:pathLst>
              <a:path w="21600" h="21600">
                <a:moveTo>
                  <a:pt x="3529" y="10797"/>
                </a:moveTo>
                <a:arcTo wR="-7271" hR="-7271" stAng="-10798582" swAng="-3892994"/>
                <a:lnTo>
                  <a:pt x="15388" y="1023"/>
                </a:lnTo>
                <a:arcTo wR="10800" hR="10800" stAng="-3891576" swAng="3892994"/>
                <a:lnTo>
                  <a:pt x="24300" y="10806"/>
                </a:lnTo>
                <a:lnTo>
                  <a:pt x="19834" y="15268"/>
                </a:lnTo>
                <a:lnTo>
                  <a:pt x="15371" y="10802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14544000"/>
          </a:gra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 rot="13757400">
            <a:off x="3109680" y="7198920"/>
            <a:ext cx="3506760" cy="103320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114380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上感患儿的护理</a:t>
            </a:r>
            <a:endParaRPr b="0" lang="en-US" sz="2400" spc="1" strike="noStrike">
              <a:ln w="9360">
                <a:solidFill>
                  <a:srgbClr val="ffff99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3924360" y="2852640"/>
            <a:ext cx="324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2c080"/>
              </a:gs>
              <a:gs pos="50000">
                <a:srgbClr val="ffffff"/>
              </a:gs>
              <a:gs pos="100000">
                <a:srgbClr val="c2c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诊断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4643280" y="3932280"/>
            <a:ext cx="324180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2c080"/>
              </a:gs>
              <a:gs pos="50000">
                <a:srgbClr val="ffffff"/>
              </a:gs>
              <a:gs pos="100000">
                <a:srgbClr val="c2c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措施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92360" y="692280"/>
            <a:ext cx="324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2c080"/>
              </a:gs>
              <a:gs pos="50000">
                <a:srgbClr val="ffffff"/>
              </a:gs>
              <a:gs pos="100000">
                <a:srgbClr val="c2c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评估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1844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（一）健康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76360" y="2637000"/>
            <a:ext cx="6696000" cy="72756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询问近期有无因护理不当而“受凉”，或是否受气候改变和不良环境的影响；既往有无患过营养障碍性疾病、先天性心脏病、贫血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407960" y="3868200"/>
            <a:ext cx="6515280" cy="40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219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局部症状：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主要为鼻咽部的症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242100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．一般类型上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3824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688"/>
                </a:solidFill>
                <a:latin typeface="Arial"/>
              </a:rPr>
              <a:t>鼻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96360" y="3824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688"/>
                </a:solidFill>
                <a:latin typeface="Arial"/>
              </a:rPr>
              <a:t>鼻流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19640" y="1808280"/>
            <a:ext cx="1623960" cy="2077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164360" y="1808280"/>
            <a:ext cx="1655640" cy="2087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692360" y="692280"/>
            <a:ext cx="324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2c080"/>
              </a:gs>
              <a:gs pos="50000">
                <a:srgbClr val="ffffff"/>
              </a:gs>
              <a:gs pos="100000">
                <a:srgbClr val="c2c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评估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170028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（二）身体状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328140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）症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4869000"/>
            <a:ext cx="7164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06400" indent="-1706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全身症状：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发热、烦躁不安、头痛、全身不适、乏力等。部分患儿有食欲不振、呕吐、腹痛、腹泻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9444000">
            <a:off x="3241440" y="3330720"/>
            <a:ext cx="1915920" cy="5968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49fff"/>
              </a:gs>
              <a:gs pos="100000">
                <a:srgbClr val="ef9100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3657600"/>
            <a:ext cx="51051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）体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体检可见咽部充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扁桃体肿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肺部听诊正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rcRect l="0" t="0" r="5810" b="1771"/>
          <a:stretch/>
        </p:blipFill>
        <p:spPr>
          <a:xfrm>
            <a:off x="5524560" y="2349360"/>
            <a:ext cx="2973240" cy="381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14400" y="281952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．一般类型上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692280"/>
            <a:ext cx="324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2c080"/>
              </a:gs>
              <a:gs pos="50000">
                <a:srgbClr val="ffffff"/>
              </a:gs>
              <a:gs pos="100000">
                <a:srgbClr val="c2c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评估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170028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（二）身体状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4208400" y="4506840"/>
            <a:ext cx="2308320" cy="4334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49fff"/>
              </a:gs>
              <a:gs pos="100000">
                <a:srgbClr val="ef91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3280" y="24782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．两种特殊类型上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92360" y="692280"/>
            <a:ext cx="324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2c080"/>
              </a:gs>
              <a:gs pos="50000">
                <a:srgbClr val="ffffff"/>
              </a:gs>
              <a:gs pos="100000">
                <a:srgbClr val="c2c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评估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170028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（二）身体状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73080" y="3357720"/>
            <a:ext cx="7919640" cy="2447280"/>
            <a:chOff x="973080" y="3357720"/>
            <a:chExt cx="7919640" cy="2447280"/>
          </a:xfrm>
        </p:grpSpPr>
        <p:grpSp>
          <p:nvGrpSpPr>
            <p:cNvPr id="161" name=""/>
            <p:cNvGrpSpPr/>
            <p:nvPr/>
          </p:nvGrpSpPr>
          <p:grpSpPr>
            <a:xfrm>
              <a:off x="973080" y="3357720"/>
              <a:ext cx="7919640" cy="2447280"/>
              <a:chOff x="973080" y="3357720"/>
              <a:chExt cx="7919640" cy="2447280"/>
            </a:xfrm>
          </p:grpSpPr>
          <p:sp>
            <p:nvSpPr>
              <p:cNvPr id="162" name=""/>
              <p:cNvSpPr/>
              <p:nvPr/>
            </p:nvSpPr>
            <p:spPr>
              <a:xfrm>
                <a:off x="973080" y="3357720"/>
                <a:ext cx="7919640" cy="244728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1f1f1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1145520" y="3582720"/>
                <a:ext cx="1526400" cy="2001600"/>
                <a:chOff x="1145520" y="3582720"/>
                <a:chExt cx="1526400" cy="20016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145520" y="3582720"/>
                  <a:ext cx="1526400" cy="2001600"/>
                </a:xfrm>
                <a:custGeom>
                  <a:avLst/>
                  <a:gdLst>
                    <a:gd name="textAreaLeft" fmla="*/ 53280 w 1526400"/>
                    <a:gd name="textAreaRight" fmla="*/ 1473120 w 1526400"/>
                    <a:gd name="textAreaTop" fmla="*/ 53280 h 2001600"/>
                    <a:gd name="textAreaBottom" fmla="*/ 1948320 h 2001600"/>
                  </a:gdLst>
                  <a:ahLst/>
                  <a:rect l="textAreaLeft" t="textAreaTop" r="textAreaRight" b="textAreaBottom"/>
                  <a:pathLst>
                    <a:path w="21600" h="28323">
                      <a:moveTo>
                        <a:pt x="2575" y="0"/>
                      </a:moveTo>
                      <a:arcTo wR="2575" hR="2575" stAng="16200000" swAng="-5400000"/>
                      <a:lnTo>
                        <a:pt x="0" y="25748"/>
                      </a:lnTo>
                      <a:arcTo wR="2575" hR="2575" stAng="10800000" swAng="-5400000"/>
                      <a:lnTo>
                        <a:pt x="19025" y="28323"/>
                      </a:lnTo>
                      <a:arcTo wR="2575" hR="2575" stAng="5400000" swAng="-5400000"/>
                      <a:lnTo>
                        <a:pt x="21600" y="2575"/>
                      </a:lnTo>
                      <a:arcTo wR="2575" hR="257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d49fff"/>
                    </a:gs>
                    <a:gs pos="100000">
                      <a:srgbClr val="936eb1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240920" y="3711600"/>
                  <a:ext cx="761040" cy="100080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6c9fe"/>
                    </a:gs>
                    <a:gs pos="50000">
                      <a:srgbClr val="d49fff">
                        <a:alpha val="0"/>
                      </a:srgbClr>
                    </a:gs>
                    <a:gs pos="100000">
                      <a:srgbClr val="e6c9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795320" y="4084560"/>
                  <a:ext cx="18468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2879280" y="3738600"/>
                <a:ext cx="582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1321920" y="3912480"/>
              <a:ext cx="11203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f9100"/>
                  </a:solidFill>
                  <a:latin typeface="Arial"/>
                  <a:ea typeface="黑体"/>
                </a:rPr>
                <a:t>疱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f9100"/>
                  </a:solidFill>
                  <a:latin typeface="Arial"/>
                  <a:ea typeface="黑体"/>
                </a:rPr>
                <a:t>性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f9100"/>
                  </a:solidFill>
                  <a:latin typeface="Arial"/>
                  <a:ea typeface="黑体"/>
                </a:rPr>
                <a:t>峡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43880" y="3664440"/>
              <a:ext cx="54662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zh-CN" sz="24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病原体为柯萨奇</a:t>
              </a:r>
              <a:r>
                <a:rPr b="0" lang="zh-CN" sz="24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组病毒，好发于夏秋季。全身症状明显，检查可见咽峡部黏膜上有灰白色的疱疹，周围有红晕，</a:t>
              </a:r>
              <a:r>
                <a:rPr b="0" lang="zh-CN" sz="24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66ff"/>
                  </a:solidFill>
                  <a:latin typeface="华文新魏"/>
                  <a:ea typeface="华文新魏"/>
                </a:rPr>
                <a:t>‾</a:t>
              </a:r>
              <a:r>
                <a:rPr b="0" lang="zh-CN" sz="24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日破溃形成小溃疡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ef9100"/>
                </a:solidFill>
                <a:latin typeface="Arial"/>
              </a:rPr>
              <a:t>学习目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上呼吸道感染、支气管炎、支气管肺炎的概念、身体状况、护理诊断及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上述疾病的治疗原则与健康教育；常见呼吸系统疾病的中医特色护理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上述疾病的健康史、辅助检查及心理状况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900000" y="3357720"/>
            <a:ext cx="7919640" cy="2447280"/>
            <a:chOff x="900000" y="3357720"/>
            <a:chExt cx="7919640" cy="2447280"/>
          </a:xfrm>
        </p:grpSpPr>
        <p:grpSp>
          <p:nvGrpSpPr>
            <p:cNvPr id="171" name=""/>
            <p:cNvGrpSpPr/>
            <p:nvPr/>
          </p:nvGrpSpPr>
          <p:grpSpPr>
            <a:xfrm>
              <a:off x="900000" y="3357720"/>
              <a:ext cx="7919640" cy="2447280"/>
              <a:chOff x="900000" y="3357720"/>
              <a:chExt cx="7919640" cy="2447280"/>
            </a:xfrm>
          </p:grpSpPr>
          <p:sp>
            <p:nvSpPr>
              <p:cNvPr id="172" name=""/>
              <p:cNvSpPr/>
              <p:nvPr/>
            </p:nvSpPr>
            <p:spPr>
              <a:xfrm>
                <a:off x="900000" y="3357720"/>
                <a:ext cx="7919640" cy="244728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e4e3c7"/>
                  </a:gs>
                  <a:gs pos="50000">
                    <a:srgbClr val="f4f3e9"/>
                  </a:gs>
                  <a:gs pos="100000">
                    <a:srgbClr val="e4e3c7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1072440" y="3582720"/>
                <a:ext cx="1526400" cy="2001600"/>
                <a:chOff x="1072440" y="3582720"/>
                <a:chExt cx="1526400" cy="20016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072440" y="3582720"/>
                  <a:ext cx="1526400" cy="2001600"/>
                </a:xfrm>
                <a:custGeom>
                  <a:avLst/>
                  <a:gdLst>
                    <a:gd name="textAreaLeft" fmla="*/ 53280 w 1526400"/>
                    <a:gd name="textAreaRight" fmla="*/ 1473120 w 1526400"/>
                    <a:gd name="textAreaTop" fmla="*/ 53280 h 2001600"/>
                    <a:gd name="textAreaBottom" fmla="*/ 1948320 h 2001600"/>
                  </a:gdLst>
                  <a:ahLst/>
                  <a:rect l="textAreaLeft" t="textAreaTop" r="textAreaRight" b="textAreaBottom"/>
                  <a:pathLst>
                    <a:path w="21600" h="28323">
                      <a:moveTo>
                        <a:pt x="2575" y="0"/>
                      </a:moveTo>
                      <a:arcTo wR="2575" hR="2575" stAng="16200000" swAng="-5400000"/>
                      <a:lnTo>
                        <a:pt x="0" y="25748"/>
                      </a:lnTo>
                      <a:arcTo wR="2575" hR="2575" stAng="10800000" swAng="-5400000"/>
                      <a:lnTo>
                        <a:pt x="19025" y="28323"/>
                      </a:lnTo>
                      <a:arcTo wR="2575" hR="2575" stAng="5400000" swAng="-5400000"/>
                      <a:lnTo>
                        <a:pt x="21600" y="2575"/>
                      </a:lnTo>
                      <a:arcTo wR="2575" hR="257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dadada"/>
                    </a:gs>
                    <a:gs pos="100000">
                      <a:srgbClr val="979797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167840" y="3711600"/>
                  <a:ext cx="761040" cy="100080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6c9fe"/>
                    </a:gs>
                    <a:gs pos="50000">
                      <a:srgbClr val="d49fff">
                        <a:alpha val="0"/>
                      </a:srgbClr>
                    </a:gs>
                    <a:gs pos="100000">
                      <a:srgbClr val="e6c9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722240" y="4084560"/>
                  <a:ext cx="18468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2806200" y="3738600"/>
                <a:ext cx="582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1249200" y="3913200"/>
              <a:ext cx="1121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f9100"/>
                  </a:solidFill>
                  <a:latin typeface="Arial"/>
                  <a:ea typeface="黑体"/>
                </a:rPr>
                <a:t>咽</a:t>
              </a:r>
              <a:r>
                <a:rPr b="0" lang="zh-CN" sz="2800" spc="-1" strike="noStrike">
                  <a:solidFill>
                    <a:srgbClr val="ef9100"/>
                  </a:solidFill>
                  <a:latin typeface="Arial"/>
                  <a:ea typeface="黑体"/>
                </a:rPr>
                <a:t>-</a:t>
              </a:r>
              <a:r>
                <a:rPr b="0" lang="zh-CN" sz="2800" spc="-1" strike="noStrike">
                  <a:solidFill>
                    <a:srgbClr val="ef9100"/>
                  </a:solidFill>
                  <a:latin typeface="Arial"/>
                  <a:ea typeface="黑体"/>
                </a:rPr>
                <a:t>结合膜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58920" y="3789360"/>
              <a:ext cx="54673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zh-CN" sz="24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病原体为腺病毒，好发于春秋季。可发生小流行。以发热、咽炎、结合膜炎为特征。病程</a:t>
              </a:r>
              <a:r>
                <a:rPr b="0" lang="zh-CN" sz="24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66ff"/>
                  </a:solidFill>
                  <a:latin typeface="华文新魏"/>
                  <a:ea typeface="华文新魏"/>
                </a:rPr>
                <a:t>‾2</a:t>
              </a:r>
              <a:r>
                <a:rPr b="0" lang="zh-CN" sz="2400" spc="-1" strike="noStrike">
                  <a:solidFill>
                    <a:srgbClr val="0066ff"/>
                  </a:solidFill>
                  <a:latin typeface="华文新魏"/>
                  <a:ea typeface="华文新魏"/>
                </a:rPr>
                <a:t>周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403280" y="24782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．两种特殊类型上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92360" y="692280"/>
            <a:ext cx="324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2c080"/>
              </a:gs>
              <a:gs pos="50000">
                <a:srgbClr val="ffffff"/>
              </a:gs>
              <a:gs pos="100000">
                <a:srgbClr val="c2c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评估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170028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（二）身体状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330920" y="-101160"/>
            <a:ext cx="7612920" cy="7410960"/>
            <a:chOff x="1330920" y="-101160"/>
            <a:chExt cx="7612920" cy="7410960"/>
          </a:xfrm>
        </p:grpSpPr>
        <p:sp>
          <p:nvSpPr>
            <p:cNvPr id="184" name=""/>
            <p:cNvSpPr/>
            <p:nvPr/>
          </p:nvSpPr>
          <p:spPr>
            <a:xfrm rot="9032400">
              <a:off x="2247120" y="980640"/>
              <a:ext cx="5779800" cy="5247000"/>
            </a:xfrm>
            <a:prstGeom prst="blockArc">
              <a:avLst>
                <a:gd name="adj1" fmla="val 14358419"/>
                <a:gd name="adj2" fmla="val 18041581"/>
                <a:gd name="adj3" fmla="val 33032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fcadb"/>
                </a:gs>
              </a:gsLst>
              <a:lin ang="179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73400" y="4973400"/>
              <a:ext cx="1126800" cy="972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急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肾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 rot="9032400">
              <a:off x="4998240" y="4170600"/>
              <a:ext cx="1663920" cy="1284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60929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99ccff"/>
                  </a:solidFill>
                  <a:effectLst>
                    <a:outerShdw dist="17819" dir="2700000" blurRad="0" rotWithShape="0">
                      <a:srgbClr val="5b7998"/>
                    </a:outerShdw>
                  </a:effectLst>
                  <a:latin typeface="黑体"/>
                </a:rPr>
                <a:t>免疫性疾病</a:t>
              </a:r>
              <a:endParaRPr b="0" lang="en-US" sz="2400" spc="1" strike="noStrike">
                <a:ln w="0">
                  <a:noFill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5b7998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9720" y="5769720"/>
              <a:ext cx="1125000" cy="972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风湿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86080" y="2052360"/>
              <a:ext cx="4838760" cy="4614480"/>
            </a:xfrm>
            <a:prstGeom prst="blockArc">
              <a:avLst>
                <a:gd name="adj1" fmla="val 10800000"/>
                <a:gd name="adj2" fmla="val 0"/>
                <a:gd name="adj3" fmla="val 3464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25240" y="1254600"/>
              <a:ext cx="1194120" cy="8928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中耳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3916440" y="2847600"/>
              <a:ext cx="2020320" cy="796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f2a100"/>
                  </a:solidFill>
                  <a:effectLst>
                    <a:outerShdw dist="17819" dir="2700000" blurRad="0" rotWithShape="0">
                      <a:srgbClr val="906000"/>
                    </a:outerShdw>
                  </a:effectLst>
                  <a:latin typeface="黑体"/>
                </a:rPr>
                <a:t>细菌感染</a:t>
              </a:r>
              <a:endParaRPr b="0" lang="en-US" sz="2400" spc="1" strike="noStrike">
                <a:ln w="0">
                  <a:noFill/>
                </a:ln>
                <a:solidFill>
                  <a:srgbClr val="f2a100"/>
                </a:solidFill>
                <a:effectLst>
                  <a:outerShdw dist="17819" dir="2700000" blurRad="0" rotWithShape="0">
                    <a:srgbClr val="906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72440" y="1623600"/>
              <a:ext cx="1194120" cy="8928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鼻窦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89120" y="3379320"/>
              <a:ext cx="1194120" cy="8924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咽后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脓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36160" y="2419920"/>
              <a:ext cx="1193760" cy="8928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颈淋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结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06920" y="1556280"/>
              <a:ext cx="1194120" cy="8928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扁桃体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43560" y="2317680"/>
              <a:ext cx="1194120" cy="8924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气管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30280" y="3349440"/>
              <a:ext cx="1194120" cy="89280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肺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2971400">
              <a:off x="2523600" y="1584000"/>
              <a:ext cx="4840200" cy="4614480"/>
            </a:xfrm>
            <a:prstGeom prst="blockArc">
              <a:avLst>
                <a:gd name="adj1" fmla="val 13862583"/>
                <a:gd name="adj2" fmla="val 18537417"/>
                <a:gd name="adj3" fmla="val 37315"/>
              </a:avLst>
            </a:prstGeom>
            <a:gradFill rotWithShape="0">
              <a:gsLst>
                <a:gs pos="0">
                  <a:srgbClr val="beceaf"/>
                </a:gs>
                <a:gs pos="100000">
                  <a:srgbClr val="def0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28280" y="5703840"/>
              <a:ext cx="1164960" cy="97488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心肌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 rot="12975600">
              <a:off x="3174840" y="4347720"/>
              <a:ext cx="1998360" cy="9295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130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ccffcc"/>
                  </a:solidFill>
                  <a:effectLst>
                    <a:outerShdw dist="17819" dir="2700000" blurRad="0" rotWithShape="0">
                      <a:srgbClr val="799879"/>
                    </a:outerShdw>
                  </a:effectLst>
                  <a:latin typeface="黑体"/>
                </a:rPr>
                <a:t>病毒感染</a:t>
              </a:r>
              <a:endParaRPr b="0" lang="en-US" sz="2400" spc="1" strike="noStrike">
                <a:ln w="0">
                  <a:noFill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799879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14000" y="4839840"/>
              <a:ext cx="1164960" cy="97488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脑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87000" y="3311640"/>
              <a:ext cx="1742400" cy="1395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8e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 Black"/>
                  <a:ea typeface="黑体"/>
                </a:rPr>
                <a:t>上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 Black"/>
                  <a:ea typeface="黑体"/>
                </a:rPr>
                <a:t>并发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826920" y="8938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．上感的并发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560600" y="2344320"/>
            <a:ext cx="5688000" cy="14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血常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病毒感染者：白细胞正常或降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细菌感染者：白细胞增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rcRect l="14490" t="36634" r="17716" b="37894"/>
          <a:stretch/>
        </p:blipFill>
        <p:spPr>
          <a:xfrm>
            <a:off x="1403280" y="4327560"/>
            <a:ext cx="6769080" cy="1909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692360" y="692280"/>
            <a:ext cx="324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2c080"/>
              </a:gs>
              <a:gs pos="50000">
                <a:srgbClr val="ffffff"/>
              </a:gs>
              <a:gs pos="100000">
                <a:srgbClr val="c2c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评估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170028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（三）辅助检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22160" y="2471400"/>
            <a:ext cx="6912000" cy="27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支持疗法及对症治疗为主，防止并发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注意休息，保持良好的环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多饮水，补充维生素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抗病毒药物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酌情选用抗生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如链球菌感染，使用青霉素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10~14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92360" y="692280"/>
            <a:ext cx="324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2c080"/>
              </a:gs>
              <a:gs pos="50000">
                <a:srgbClr val="ffffff"/>
              </a:gs>
              <a:gs pos="100000">
                <a:srgbClr val="c2c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评估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182880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（四）治疗要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620640"/>
            <a:ext cx="561636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2c080"/>
              </a:gs>
              <a:gs pos="50000">
                <a:srgbClr val="ffffff"/>
              </a:gs>
              <a:gs pos="100000">
                <a:srgbClr val="c2c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诊断及合作性问题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692360" y="2133720"/>
            <a:ext cx="5976000" cy="1150920"/>
            <a:chOff x="1692360" y="2133720"/>
            <a:chExt cx="5976000" cy="1150920"/>
          </a:xfrm>
        </p:grpSpPr>
        <p:sp>
          <p:nvSpPr>
            <p:cNvPr id="212" name=""/>
            <p:cNvSpPr/>
            <p:nvPr/>
          </p:nvSpPr>
          <p:spPr>
            <a:xfrm rot="5400000">
              <a:off x="5185080" y="511920"/>
              <a:ext cx="718920" cy="4247640"/>
            </a:xfrm>
            <a:prstGeom prst="can">
              <a:avLst>
                <a:gd name="adj" fmla="val 5032"/>
              </a:avLst>
            </a:prstGeom>
            <a:gradFill rotWithShape="0">
              <a:gsLst>
                <a:gs pos="0">
                  <a:srgbClr val="808000"/>
                </a:gs>
                <a:gs pos="50000">
                  <a:srgbClr val="ffffff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f9100"/>
                  </a:solidFill>
                  <a:latin typeface="Arial"/>
                  <a:ea typeface="黑体"/>
                </a:rPr>
                <a:t>与呼吸道感染有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2360" y="2133720"/>
              <a:ext cx="2160360" cy="1150920"/>
            </a:xfrm>
            <a:prstGeom prst="hexagon">
              <a:avLst>
                <a:gd name="adj" fmla="val 4692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  <a:ea typeface="黑体"/>
                </a:rPr>
                <a:t>体温过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690560" y="3790800"/>
            <a:ext cx="5977080" cy="1150920"/>
            <a:chOff x="1690560" y="3790800"/>
            <a:chExt cx="5977080" cy="1150920"/>
          </a:xfrm>
        </p:grpSpPr>
        <p:sp>
          <p:nvSpPr>
            <p:cNvPr id="215" name=""/>
            <p:cNvSpPr/>
            <p:nvPr/>
          </p:nvSpPr>
          <p:spPr>
            <a:xfrm rot="5400000">
              <a:off x="5184000" y="2169000"/>
              <a:ext cx="718920" cy="4248000"/>
            </a:xfrm>
            <a:prstGeom prst="can">
              <a:avLst>
                <a:gd name="adj" fmla="val 5032"/>
              </a:avLst>
            </a:prstGeom>
            <a:gradFill rotWithShape="0">
              <a:gsLst>
                <a:gs pos="0">
                  <a:srgbClr val="808000"/>
                </a:gs>
                <a:gs pos="50000">
                  <a:srgbClr val="ffffff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f9100"/>
                  </a:solidFill>
                  <a:latin typeface="Arial"/>
                  <a:ea typeface="黑体"/>
                </a:rPr>
                <a:t>热性惊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0560" y="3790800"/>
              <a:ext cx="2160720" cy="1150920"/>
            </a:xfrm>
            <a:prstGeom prst="hexagon">
              <a:avLst>
                <a:gd name="adj" fmla="val 4693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  <a:ea typeface="黑体"/>
                </a:rPr>
                <a:t>潜在并发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5364000" y="5084640"/>
            <a:ext cx="1600200" cy="1521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902880" y="2133360"/>
            <a:ext cx="381636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9051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一）维持体温正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63640" y="2782800"/>
            <a:ext cx="511344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Times New Roman"/>
              </a:rPr>
              <a:t>环境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Times New Roman"/>
              </a:rPr>
              <a:t>体温观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Times New Roman"/>
              </a:rPr>
              <a:t>体温记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Times New Roman"/>
              </a:rPr>
              <a:t>营养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Times New Roman"/>
              </a:rPr>
              <a:t>按医嘱用药</a:t>
            </a:r>
            <a:r>
              <a:rPr b="0" lang="zh-CN" sz="3600" spc="-1" strike="noStrike">
                <a:solidFill>
                  <a:srgbClr val="009688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92360" y="692280"/>
            <a:ext cx="324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2c080"/>
              </a:gs>
              <a:gs pos="50000">
                <a:srgbClr val="ffffff"/>
              </a:gs>
              <a:gs pos="100000">
                <a:srgbClr val="c2c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措施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364000" y="2924280"/>
            <a:ext cx="2318040" cy="2394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19320" y="2666880"/>
            <a:ext cx="7543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物理降温：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＞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38.5℃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时给予物理降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rcRect l="0" t="0" r="0" b="2499"/>
          <a:stretch/>
        </p:blipFill>
        <p:spPr>
          <a:xfrm>
            <a:off x="755640" y="3716280"/>
            <a:ext cx="3691080" cy="2521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586400" y="3716280"/>
            <a:ext cx="4306680" cy="2592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692360" y="692280"/>
            <a:ext cx="324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2c080"/>
              </a:gs>
              <a:gs pos="50000">
                <a:srgbClr val="ffffff"/>
              </a:gs>
              <a:gs pos="100000">
                <a:srgbClr val="c2c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措施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71640" y="1844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一）维持体温正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042920" y="2133720"/>
            <a:ext cx="7000920" cy="41749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9ac173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95320" indent="-82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95320" indent="-82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常发生在寒冷季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95320" indent="-82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绝大多数病人是小于</a:t>
            </a: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岁的小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95320" indent="-82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过度保暖和捂闷过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95320" indent="-82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室内温度过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95320" indent="-82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缺氧、窒息，不能有效散热而发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95320" indent="-82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严重者可留下癫痫、瘫痪等后遗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95320" indent="-82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27280" y="1770840"/>
            <a:ext cx="4321080" cy="726120"/>
          </a:xfrm>
          <a:prstGeom prst="hexagon">
            <a:avLst>
              <a:gd name="adj" fmla="val 29755"/>
              <a:gd name="vf" fmla="val 115470"/>
            </a:avLst>
          </a:prstGeom>
          <a:solidFill>
            <a:srgbClr val="ffff99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Arial"/>
              </a:rPr>
              <a:t>小儿捂热综合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258920" y="620640"/>
            <a:ext cx="216072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警惕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98280" y="3141720"/>
            <a:ext cx="3933720" cy="34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按医嘱给予退热剂，如口服对乙酰氨基酚或安乃近溶滴鼻。并给予抗病毒药物，合并细菌感染者使用抗生素治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rcRect l="44552" t="0" r="0" b="0"/>
          <a:stretch/>
        </p:blipFill>
        <p:spPr>
          <a:xfrm>
            <a:off x="5580000" y="3500280"/>
            <a:ext cx="2697120" cy="28400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92360" y="692280"/>
            <a:ext cx="324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2c080"/>
              </a:gs>
              <a:gs pos="50000">
                <a:srgbClr val="ffffff"/>
              </a:gs>
              <a:gs pos="100000">
                <a:srgbClr val="c2c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措施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71640" y="184464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一）维持体温正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25909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按医嘱用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219320" y="2590920"/>
            <a:ext cx="6572160" cy="358128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8795b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密切观察病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体温超过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38.5℃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应及时给予降温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既往有热性惊厥更要注意及时降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按医嘱预防性用镇静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保持室内安静，减少刺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92360" y="692280"/>
            <a:ext cx="324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2c080"/>
              </a:gs>
              <a:gs pos="50000">
                <a:srgbClr val="ffffff"/>
              </a:gs>
              <a:gs pos="100000">
                <a:srgbClr val="c2c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措施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71640" y="184464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二）预防热性惊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57400" y="2286000"/>
            <a:ext cx="6516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呼吸系统解剖、生理特点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5257800"/>
            <a:ext cx="2797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肺 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3200400"/>
            <a:ext cx="46195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急性上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987640" y="692280"/>
            <a:ext cx="280836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381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85b00"/>
                  </a:outerShdw>
                </a:effectLst>
                <a:latin typeface="黑体"/>
              </a:rPr>
              <a:t>主要内容</a:t>
            </a:r>
            <a:endParaRPr b="0" lang="en-US" sz="6000" spc="1" strike="noStrike">
              <a:ln w="38160">
                <a:solidFill>
                  <a:srgbClr val="ff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85b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91120"/>
            <a:ext cx="3887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急性支气管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79360" y="2471760"/>
            <a:ext cx="5486400" cy="13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9688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9688"/>
                </a:solidFill>
                <a:latin typeface="宋体"/>
              </a:rPr>
              <a:t>指导家庭护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避免用力擤鼻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使用麻黄碱溶液滴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572000"/>
            <a:ext cx="7010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2. 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指导口腔护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3. 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介绍预防措施     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如食醋熏蒸法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177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三）健康指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692280"/>
            <a:ext cx="324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2c080"/>
              </a:gs>
              <a:gs pos="50000">
                <a:srgbClr val="ffffff"/>
              </a:gs>
              <a:gs pos="100000">
                <a:srgbClr val="c2c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措施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3903840" cy="2414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305240" y="3233880"/>
            <a:ext cx="4017960" cy="2100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340000" y="2492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9688"/>
                </a:solidFill>
                <a:latin typeface="Arial"/>
              </a:rPr>
              <a:t>指导家庭护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76360" y="177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三）健康指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692280"/>
            <a:ext cx="324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2c080"/>
              </a:gs>
              <a:gs pos="50000">
                <a:srgbClr val="ffffff"/>
              </a:gs>
              <a:gs pos="100000">
                <a:srgbClr val="c2c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措施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3068280"/>
            <a:ext cx="4043520" cy="30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保持房间空气新鲜，温度、湿度适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增加营养和加强体格锻炼，避免受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不带儿童到人多的公共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rcRect l="0" t="0" r="0" b="212"/>
          <a:stretch/>
        </p:blipFill>
        <p:spPr>
          <a:xfrm>
            <a:off x="4146480" y="3054240"/>
            <a:ext cx="4211640" cy="22780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523880" y="251460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9688"/>
                </a:solidFill>
                <a:latin typeface="Arial"/>
              </a:rPr>
              <a:t>介绍预防措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76360" y="177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三）健康指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92360" y="692280"/>
            <a:ext cx="324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2c080"/>
              </a:gs>
              <a:gs pos="50000">
                <a:srgbClr val="ffffff"/>
              </a:gs>
              <a:gs pos="100000">
                <a:srgbClr val="c2c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措施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029200" y="3048120"/>
            <a:ext cx="3975120" cy="2419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55640" y="2781360"/>
            <a:ext cx="403848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室内空气消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及时增减衣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积极治疗原发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提倡母乳喂养，及是时添加辅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改善机体健康状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76360" y="20606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9688"/>
                </a:solidFill>
                <a:latin typeface="Arial"/>
              </a:rPr>
              <a:t>介绍预防措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341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三）健康指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08000" y="260280"/>
            <a:ext cx="324180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2c080"/>
              </a:gs>
              <a:gs pos="50000">
                <a:srgbClr val="ffffff"/>
              </a:gs>
              <a:gs pos="100000">
                <a:srgbClr val="c2c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措施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556920"/>
            <a:ext cx="6056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800" spc="-1" strike="noStrike">
                <a:solidFill>
                  <a:srgbClr val="336600"/>
                </a:solidFill>
                <a:latin typeface="黑体"/>
                <a:ea typeface="黑体"/>
              </a:rPr>
              <a:t> </a:t>
            </a:r>
            <a:r>
              <a:rPr b="1" i="1" lang="zh-CN" sz="3800" spc="-1" strike="noStrike">
                <a:solidFill>
                  <a:srgbClr val="009900"/>
                </a:solidFill>
                <a:latin typeface="黑体"/>
                <a:ea typeface="黑体"/>
              </a:rPr>
              <a:t>第三节  急性支气管炎</a:t>
            </a:r>
            <a:endParaRPr b="0" i="1" lang="en-US" sz="3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070760" cy="25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急性支气管炎是指由于各种致病原引起的支气管黏膜的急性炎症，气管常同时受累，故又称为急性气管支气管炎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6705720" y="4495680"/>
            <a:ext cx="1815840" cy="201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2556000" y="1844640"/>
            <a:ext cx="324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评估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89080" y="628560"/>
            <a:ext cx="5904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第三节   急性支气管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20555400">
            <a:off x="-2700000" y="1988640"/>
            <a:ext cx="7273800" cy="7705800"/>
          </a:xfrm>
          <a:custGeom>
            <a:avLst/>
            <a:gdLst>
              <a:gd name="textAreaLeft" fmla="*/ 0 w 7273800"/>
              <a:gd name="textAreaRight" fmla="*/ 7274160 w 7273800"/>
              <a:gd name="textAreaTop" fmla="*/ 0 h 7705800"/>
              <a:gd name="textAreaBottom" fmla="*/ 7706160 h 7705800"/>
            </a:gdLst>
            <a:ahLst/>
            <a:rect l="textAreaLeft" t="textAreaTop" r="textAreaRight" b="textAreaBottom"/>
            <a:pathLst>
              <a:path w="21600" h="21600">
                <a:moveTo>
                  <a:pt x="2994" y="10587"/>
                </a:moveTo>
                <a:arcTo wR="-7809" hR="-7809" stAng="-10706231" swAng="-3985345"/>
                <a:lnTo>
                  <a:pt x="15388" y="1023"/>
                </a:lnTo>
                <a:arcTo wR="10800" hR="10800" stAng="-3891576" swAng="3985345"/>
                <a:lnTo>
                  <a:pt x="24295" y="11168"/>
                </a:lnTo>
                <a:lnTo>
                  <a:pt x="19987" y="15248"/>
                </a:lnTo>
                <a:lnTo>
                  <a:pt x="15907" y="10939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cc"/>
              </a:gs>
              <a:gs pos="100000">
                <a:srgbClr val="808000"/>
              </a:gs>
            </a:gsLst>
            <a:lin ang="145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 rot="13757400">
            <a:off x="3109680" y="7198920"/>
            <a:ext cx="3506760" cy="103320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114380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支气管炎患儿的护理</a:t>
            </a:r>
            <a:endParaRPr b="0" lang="en-US" sz="2400" spc="1" strike="noStrike">
              <a:ln w="9360">
                <a:solidFill>
                  <a:srgbClr val="808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65" name="">
            <a:hlinkClick r:id="rId2" action="ppaction://hlinksldjump"/>
          </p:cNvPr>
          <p:cNvSpPr/>
          <p:nvPr/>
        </p:nvSpPr>
        <p:spPr>
          <a:xfrm>
            <a:off x="3924360" y="2852640"/>
            <a:ext cx="324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诊断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3" action="ppaction://hlinksldjump"/>
          </p:cNvPr>
          <p:cNvSpPr/>
          <p:nvPr/>
        </p:nvSpPr>
        <p:spPr>
          <a:xfrm>
            <a:off x="4643280" y="3932280"/>
            <a:ext cx="324180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措施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792000" y="2133360"/>
            <a:ext cx="7583760" cy="29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（一）健康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有无上呼吸道感染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既往有无反复发作史、湿疹或其他过敏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是否为特异性体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有无免疫功能下降、营养障碍性疾病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08000" y="692280"/>
            <a:ext cx="324180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评估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258920" y="2565360"/>
            <a:ext cx="76341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以咳嗽为主要症状，开始为刺激性干咳，以后有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发热、纳差、乏力、呕吐、腹泻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体检双肺呼吸音粗糙，可闻及不固定散在的干、湿啰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08000" y="692280"/>
            <a:ext cx="324180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评估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87280" y="1628640"/>
            <a:ext cx="3097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二）身体状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835280" y="2637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哮喘性支气管炎（喘息性支气管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19280" y="3357720"/>
            <a:ext cx="63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有喘息表现的婴幼儿急性支气管感染，是小儿常见的一种特殊类型的支气管炎。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8000" y="692280"/>
            <a:ext cx="324180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评估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95280" y="1752480"/>
            <a:ext cx="3097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二）身体状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103040" y="2787120"/>
            <a:ext cx="7281720" cy="3017880"/>
          </a:xfrm>
          <a:prstGeom prst="rect">
            <a:avLst/>
          </a:prstGeom>
          <a:noFill/>
          <a:ln w="76320">
            <a:solidFill>
              <a:srgbClr val="ccffcc"/>
            </a:solidFill>
            <a:miter/>
          </a:ln>
          <a:effectLst>
            <a:outerShdw dist="17819" dir="2700000" blurRad="0" rotWithShape="0">
              <a:srgbClr val="799879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多见于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岁以下，有湿疹或过敏史的患儿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有类似哮喘的临床表现，如呼气性呼吸困难，肺部叩诊呈过清音，听诊两肺满布哮鸣音及少量粗湿啰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大多病例复发与感染有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④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近期预后大多良好，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3~4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岁后发作次数逐渐减少，但少数可发展成为支气管哮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205740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哮喘性支气管炎特点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8000" y="692280"/>
            <a:ext cx="324180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评估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732640" y="1844640"/>
            <a:ext cx="2943000" cy="4462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234936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92360" y="2565360"/>
            <a:ext cx="374328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宋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成人相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儿呼吸系统有什么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何临床意义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556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第一节  小儿呼吸系统解剖、生理特点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97316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（一）解剖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31640" y="549360"/>
            <a:ext cx="6800760" cy="89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400" spc="-1" strike="noStrike">
                <a:solidFill>
                  <a:srgbClr val="009688"/>
                </a:solidFill>
                <a:latin typeface="Arial"/>
              </a:rPr>
              <a:t>类似哮喘吧！要怎么区别呢？？？</a:t>
            </a:r>
            <a:endParaRPr b="0" i="1" lang="en-US" sz="3400" spc="-1" strike="noStrike">
              <a:solidFill>
                <a:srgbClr val="009fff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042920" y="1484280"/>
          <a:ext cx="7704000" cy="4667400"/>
        </p:xfrm>
        <a:graphic>
          <a:graphicData uri="http://schemas.openxmlformats.org/drawingml/2006/table">
            <a:tbl>
              <a:tblPr/>
              <a:tblGrid>
                <a:gridCol w="2162160"/>
                <a:gridCol w="2209680"/>
                <a:gridCol w="333216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黑体"/>
                        </a:rPr>
                        <a:t>哮喘性支气管炎与支气管哮喘比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哮喘支气管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支气管哮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9688"/>
                          </a:solidFill>
                          <a:latin typeface="Times New Roman"/>
                          <a:ea typeface="黑体"/>
                        </a:rPr>
                        <a:t>好发年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岁以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大多</a:t>
                      </a:r>
                      <a:r>
                        <a:rPr b="1" lang="zh-CN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岁以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9688"/>
                          </a:solidFill>
                          <a:latin typeface="Times New Roman"/>
                          <a:ea typeface="黑体"/>
                        </a:rPr>
                        <a:t>过敏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9688"/>
                          </a:solidFill>
                          <a:latin typeface="Times New Roman"/>
                          <a:ea typeface="黑体"/>
                        </a:rPr>
                        <a:t>家族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一般没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9688"/>
                          </a:solidFill>
                          <a:latin typeface="Times New Roman"/>
                          <a:ea typeface="黑体"/>
                        </a:rPr>
                        <a:t>类似哮喘表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9688"/>
                          </a:solidFill>
                          <a:latin typeface="Times New Roman"/>
                          <a:ea typeface="黑体"/>
                        </a:rPr>
                        <a:t>治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抗炎、平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抗炎、平喘，可用免疫抑制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9688"/>
                          </a:solidFill>
                          <a:latin typeface="Times New Roman"/>
                          <a:ea typeface="黑体"/>
                        </a:rPr>
                        <a:t>预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良好，大多在</a:t>
                      </a:r>
                      <a:r>
                        <a:rPr b="1" lang="zh-CN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zh-CN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岁后自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差，常终生反复发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179000" y="2662200"/>
            <a:ext cx="7137720" cy="32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患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因呼吸困难而烦躁不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住院患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因环境陌生以及与父母分离而出现焦虑、恐惧。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家长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 担心患儿会发展成为支气管哮喘而产生恐惧与担忧。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7656480" y="2243160"/>
            <a:ext cx="657360" cy="5493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826920" y="184464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三）心理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社会状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8000" y="692280"/>
            <a:ext cx="324180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评估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899640" y="2565360"/>
            <a:ext cx="48006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1.  X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线检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多无异常改变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或有肺纹理增粗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2.  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血常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白细胞增高或降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rcRect l="0" t="7566" r="16034" b="10855"/>
          <a:stretch/>
        </p:blipFill>
        <p:spPr>
          <a:xfrm>
            <a:off x="4932360" y="1916280"/>
            <a:ext cx="3559320" cy="4248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826920" y="184464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四）辅助检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8000" y="692280"/>
            <a:ext cx="324180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评估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066680" y="2895480"/>
            <a:ext cx="4818240" cy="14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控制感染和对症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如止咳、化痰、平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6920" y="184464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五）治疗要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692280"/>
            <a:ext cx="324180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评估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6095880" y="3809880"/>
            <a:ext cx="1995480" cy="22575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4572000" y="4876920"/>
            <a:ext cx="1238400" cy="1277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58920" y="620640"/>
            <a:ext cx="518472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诊断及合作性问题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28720" y="2349360"/>
            <a:ext cx="7920000" cy="1224000"/>
            <a:chOff x="828720" y="2349360"/>
            <a:chExt cx="7920000" cy="1224000"/>
          </a:xfrm>
        </p:grpSpPr>
        <p:sp>
          <p:nvSpPr>
            <p:cNvPr id="296" name=""/>
            <p:cNvSpPr/>
            <p:nvPr/>
          </p:nvSpPr>
          <p:spPr>
            <a:xfrm>
              <a:off x="828720" y="2349360"/>
              <a:ext cx="7920000" cy="12240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1001520" y="2492280"/>
              <a:ext cx="2346120" cy="1008000"/>
              <a:chOff x="1001520" y="2492280"/>
              <a:chExt cx="2346120" cy="1008000"/>
            </a:xfrm>
          </p:grpSpPr>
          <p:sp>
            <p:nvSpPr>
              <p:cNvPr id="298" name=""/>
              <p:cNvSpPr/>
              <p:nvPr/>
            </p:nvSpPr>
            <p:spPr>
              <a:xfrm>
                <a:off x="1001520" y="2492280"/>
                <a:ext cx="2346120" cy="10080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49fff"/>
                  </a:gs>
                  <a:gs pos="100000">
                    <a:srgbClr val="936eb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148040" y="2557080"/>
                <a:ext cx="1169640" cy="5040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c9fe"/>
                  </a:gs>
                  <a:gs pos="50000">
                    <a:srgbClr val="d49fff">
                      <a:alpha val="0"/>
                    </a:srgbClr>
                  </a:gs>
                  <a:gs pos="100000">
                    <a:srgbClr val="e6c9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49480" y="2745000"/>
                <a:ext cx="18252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116000" y="2492280"/>
              <a:ext cx="202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f9100"/>
                  </a:solidFill>
                  <a:latin typeface="Arial"/>
                  <a:ea typeface="黑体"/>
                </a:rPr>
                <a:t>清理呼吸道无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08360" y="2492280"/>
              <a:ext cx="48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Arial"/>
                </a:rPr>
                <a:t>与痰液粘稠不易咳出，呼吸道分泌物堆积有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828720" y="4437000"/>
            <a:ext cx="7920000" cy="1224000"/>
            <a:chOff x="828720" y="4437000"/>
            <a:chExt cx="7920000" cy="1224000"/>
          </a:xfrm>
        </p:grpSpPr>
        <p:sp>
          <p:nvSpPr>
            <p:cNvPr id="304" name=""/>
            <p:cNvSpPr/>
            <p:nvPr/>
          </p:nvSpPr>
          <p:spPr>
            <a:xfrm>
              <a:off x="828720" y="4437000"/>
              <a:ext cx="7920000" cy="12240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1001520" y="4579920"/>
              <a:ext cx="2346120" cy="1008000"/>
              <a:chOff x="1001520" y="4579920"/>
              <a:chExt cx="2346120" cy="1008000"/>
            </a:xfrm>
          </p:grpSpPr>
          <p:sp>
            <p:nvSpPr>
              <p:cNvPr id="306" name=""/>
              <p:cNvSpPr/>
              <p:nvPr/>
            </p:nvSpPr>
            <p:spPr>
              <a:xfrm>
                <a:off x="1001520" y="4579920"/>
                <a:ext cx="2346120" cy="10080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49fff"/>
                  </a:gs>
                  <a:gs pos="100000">
                    <a:srgbClr val="936eb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148040" y="4644720"/>
                <a:ext cx="1169640" cy="5040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c9fe"/>
                  </a:gs>
                  <a:gs pos="50000">
                    <a:srgbClr val="d49fff">
                      <a:alpha val="0"/>
                    </a:srgbClr>
                  </a:gs>
                  <a:gs pos="100000">
                    <a:srgbClr val="e6c9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49480" y="4832640"/>
                <a:ext cx="18252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1116000" y="4579920"/>
              <a:ext cx="20257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f9100"/>
                  </a:solidFill>
                  <a:latin typeface="Arial"/>
                  <a:ea typeface="黑体"/>
                </a:rPr>
                <a:t>知识缺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08360" y="4579920"/>
              <a:ext cx="48974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Arial"/>
                </a:rPr>
                <a:t>家长缺乏支气管炎的有关知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720360" y="1699920"/>
            <a:ext cx="773892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（一）保持呼吸道通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．减少活动，注意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．保持室内空气清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．教会并鼓励患儿有效咳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．超声雾化吸入或蒸气吸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．按医嘱给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．注意观察有无缺氧症状，必要时给予吸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2808000" cy="17888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692360" y="692280"/>
            <a:ext cx="324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措施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3"/>
          <a:srcRect l="0" t="0" r="2630" b="0"/>
          <a:stretch/>
        </p:blipFill>
        <p:spPr>
          <a:xfrm>
            <a:off x="6659640" y="3789360"/>
            <a:ext cx="2087640" cy="1380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 flipH="1" rot="21006600">
            <a:off x="5743440" y="4581000"/>
            <a:ext cx="916200" cy="5270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49fff"/>
              </a:gs>
              <a:gs pos="100000">
                <a:srgbClr val="ef9100"/>
              </a:gs>
            </a:gsLst>
            <a:lin ang="102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0105800">
            <a:off x="5289480" y="3057480"/>
            <a:ext cx="1008000" cy="4428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49fff"/>
              </a:gs>
              <a:gs pos="100000">
                <a:srgbClr val="ef9100"/>
              </a:gs>
            </a:gsLst>
            <a:lin ang="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1029960" y="2951280"/>
            <a:ext cx="6769080" cy="163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．向家长介绍急性支气管炎的基本知识及护理要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．加强体育锻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．提高机体的耐寒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914400"/>
            <a:ext cx="324180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Arial"/>
                <a:ea typeface="黑体"/>
              </a:rPr>
              <a:t>【护理措施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87280" y="1916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（二）健康指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6858000" y="3886200"/>
            <a:ext cx="1862280" cy="1305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05080" y="1136520"/>
            <a:ext cx="42480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800" spc="-1" strike="noStrike">
                <a:solidFill>
                  <a:srgbClr val="009900"/>
                </a:solidFill>
                <a:latin typeface="黑体"/>
                <a:ea typeface="黑体"/>
              </a:rPr>
              <a:t>第四节  小儿肺炎</a:t>
            </a:r>
            <a:endParaRPr b="0" i="1" lang="en-US" sz="3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0400" y="2281320"/>
            <a:ext cx="7272360" cy="2084400"/>
          </a:xfrm>
          <a:prstGeom prst="rect">
            <a:avLst/>
          </a:prstGeom>
          <a:noFill/>
          <a:ln w="76320">
            <a:solidFill>
              <a:srgbClr val="ccffcc"/>
            </a:solidFill>
            <a:miter/>
          </a:ln>
          <a:effectLst>
            <a:outerShdw dist="17819" dir="2700000" blurRad="0" rotWithShape="0">
              <a:srgbClr val="799879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指不同病原体或其他因素所致的肺部炎症。以发热、咳嗽、气促、呼吸困难和肺部固定湿啰音为共同临床表现 。占我国住院儿童死亡的第一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5364000" y="4836960"/>
            <a:ext cx="2551320" cy="16351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rcRect l="4500" t="6141" r="4429" b="8975"/>
          <a:stretch/>
        </p:blipFill>
        <p:spPr>
          <a:xfrm>
            <a:off x="2771640" y="5516640"/>
            <a:ext cx="1297080" cy="9064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rcRect l="3969" t="6235" r="4040" b="8455"/>
          <a:stretch/>
        </p:blipFill>
        <p:spPr>
          <a:xfrm>
            <a:off x="1692360" y="5516640"/>
            <a:ext cx="1224000" cy="852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547640" y="5445000"/>
            <a:ext cx="6253200" cy="21600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2268360" y="1844640"/>
            <a:ext cx="4752360" cy="3578040"/>
            <a:chOff x="2268360" y="1844640"/>
            <a:chExt cx="4752360" cy="3578040"/>
          </a:xfrm>
        </p:grpSpPr>
        <p:sp>
          <p:nvSpPr>
            <p:cNvPr id="328" name=""/>
            <p:cNvSpPr/>
            <p:nvPr/>
          </p:nvSpPr>
          <p:spPr>
            <a:xfrm>
              <a:off x="2268360" y="3992040"/>
              <a:ext cx="1917360" cy="1430640"/>
            </a:xfrm>
            <a:prstGeom prst="hexagon">
              <a:avLst>
                <a:gd name="adj" fmla="val 335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按病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68360" y="2560680"/>
              <a:ext cx="1917360" cy="1431000"/>
            </a:xfrm>
            <a:prstGeom prst="hexagon">
              <a:avLst>
                <a:gd name="adj" fmla="val 3349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按病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86760" y="1844640"/>
              <a:ext cx="1915920" cy="1430640"/>
            </a:xfrm>
            <a:prstGeom prst="hexagon">
              <a:avLst>
                <a:gd name="adj" fmla="val 3348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按病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03360" y="3992040"/>
              <a:ext cx="1917360" cy="1430640"/>
            </a:xfrm>
            <a:prstGeom prst="hexagon">
              <a:avLst>
                <a:gd name="adj" fmla="val 33505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按表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03360" y="2560680"/>
              <a:ext cx="1917360" cy="1431000"/>
            </a:xfrm>
            <a:prstGeom prst="hexagon">
              <a:avLst>
                <a:gd name="adj" fmla="val 33497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按病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69680" y="3072600"/>
              <a:ext cx="2392560" cy="1788840"/>
            </a:xfrm>
            <a:prstGeom prst="hexagon">
              <a:avLst>
                <a:gd name="adj" fmla="val 33437"/>
                <a:gd name="vf" fmla="val 115470"/>
              </a:avLst>
            </a:prstGeom>
            <a:solidFill>
              <a:srgbClr val="006666">
                <a:alpha val="50000"/>
              </a:srgbClr>
            </a:solidFill>
            <a:ln w="9360">
              <a:solidFill>
                <a:srgbClr val="cc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f9100"/>
                  </a:solidFill>
                  <a:latin typeface="HY견고딕"/>
                  <a:ea typeface="黑体"/>
                </a:rPr>
                <a:t>肺炎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f9100"/>
                  </a:solidFill>
                  <a:latin typeface="HY견고딕"/>
                  <a:ea typeface="黑体"/>
                </a:rPr>
                <a:t>分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124000" y="692280"/>
            <a:ext cx="2879640" cy="58140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50000">
                <a:srgbClr val="ffffff"/>
              </a:gs>
              <a:gs pos="100000">
                <a:srgbClr val="d49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e5f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肺炎的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987640" y="620640"/>
            <a:ext cx="2879640" cy="58140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50000">
                <a:srgbClr val="ffffff"/>
              </a:gs>
              <a:gs pos="100000">
                <a:srgbClr val="d49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e5f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肺炎的病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-36720" y="1581120"/>
            <a:ext cx="9154080" cy="5303880"/>
            <a:chOff x="-36720" y="1581120"/>
            <a:chExt cx="9154080" cy="5303880"/>
          </a:xfrm>
        </p:grpSpPr>
        <p:grpSp>
          <p:nvGrpSpPr>
            <p:cNvPr id="337" name=""/>
            <p:cNvGrpSpPr/>
            <p:nvPr/>
          </p:nvGrpSpPr>
          <p:grpSpPr>
            <a:xfrm>
              <a:off x="-36720" y="5413320"/>
              <a:ext cx="9154080" cy="1471680"/>
              <a:chOff x="-36720" y="5413320"/>
              <a:chExt cx="9154080" cy="147168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4539240" y="5413320"/>
                <a:ext cx="4578120" cy="1471680"/>
                <a:chOff x="4539240" y="5413320"/>
                <a:chExt cx="4578120" cy="14716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4539240" y="5413320"/>
                  <a:ext cx="4578120" cy="111996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539240" y="5413320"/>
                  <a:ext cx="4578120" cy="131940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539240" y="5413320"/>
                  <a:ext cx="4342320" cy="14716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539240" y="5413320"/>
                  <a:ext cx="3637080" cy="14716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539240" y="5413320"/>
                  <a:ext cx="2975400" cy="14716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539240" y="5413320"/>
                  <a:ext cx="2308320" cy="14716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539240" y="5413320"/>
                  <a:ext cx="1721520" cy="14716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539240" y="5413320"/>
                  <a:ext cx="1136520" cy="14716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539240" y="5413320"/>
                  <a:ext cx="548280" cy="14716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539240" y="5413320"/>
                  <a:ext cx="0" cy="14716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539240" y="5413320"/>
                  <a:ext cx="4578120" cy="96876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539240" y="5413320"/>
                  <a:ext cx="4578120" cy="8344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539240" y="5413320"/>
                  <a:ext cx="4578120" cy="71856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539240" y="5413320"/>
                  <a:ext cx="4578120" cy="6022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579560" y="5413320"/>
                  <a:ext cx="4537800" cy="50184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539240" y="5413320"/>
                  <a:ext cx="4578120" cy="40176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539240" y="5413320"/>
                  <a:ext cx="4578120" cy="31644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539240" y="5413320"/>
                  <a:ext cx="4578120" cy="23292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539240" y="5413320"/>
                  <a:ext cx="4578120" cy="1666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539240" y="5413320"/>
                  <a:ext cx="4578120" cy="982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539240" y="5413320"/>
                  <a:ext cx="4578120" cy="4896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-36720" y="5413320"/>
                <a:ext cx="4575600" cy="1471680"/>
                <a:chOff x="-36720" y="5413320"/>
                <a:chExt cx="4575600" cy="1471680"/>
              </a:xfrm>
            </p:grpSpPr>
            <p:sp>
              <p:nvSpPr>
                <p:cNvPr id="361" name=""/>
                <p:cNvSpPr/>
                <p:nvPr/>
              </p:nvSpPr>
              <p:spPr>
                <a:xfrm flipH="1">
                  <a:off x="-36720" y="5413320"/>
                  <a:ext cx="457524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>
                  <a:off x="-36720" y="5413320"/>
                  <a:ext cx="4575240" cy="111996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>
                  <a:off x="-36720" y="5413320"/>
                  <a:ext cx="4575240" cy="131940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>
                  <a:off x="200880" y="5413320"/>
                  <a:ext cx="4337640" cy="14716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>
                  <a:off x="904680" y="5413320"/>
                  <a:ext cx="3633480" cy="14716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1567080" y="5413320"/>
                  <a:ext cx="2971440" cy="14716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2232720" y="5413320"/>
                  <a:ext cx="2305800" cy="14716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>
                  <a:off x="2823120" y="5413320"/>
                  <a:ext cx="1715400" cy="14716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>
                  <a:off x="3407040" y="5413320"/>
                  <a:ext cx="1131840" cy="14716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>
                  <a:off x="3996000" y="5413320"/>
                  <a:ext cx="542880" cy="14716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>
                  <a:off x="-36720" y="5413320"/>
                  <a:ext cx="4575240" cy="96876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>
                  <a:off x="-36720" y="5413320"/>
                  <a:ext cx="4575240" cy="8344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>
                  <a:off x="-36720" y="5413320"/>
                  <a:ext cx="4575240" cy="71856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>
                  <a:off x="-36720" y="5413320"/>
                  <a:ext cx="4575240" cy="6022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>
                  <a:off x="-36720" y="5413320"/>
                  <a:ext cx="4537080" cy="50184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>
                  <a:off x="-36720" y="5413320"/>
                  <a:ext cx="4575240" cy="40176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>
                  <a:off x="-36720" y="5413320"/>
                  <a:ext cx="4575240" cy="31644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>
                  <a:off x="-36720" y="5413320"/>
                  <a:ext cx="4575240" cy="23292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>
                  <a:off x="-36720" y="5413320"/>
                  <a:ext cx="4575240" cy="1666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>
                  <a:off x="-36720" y="5413320"/>
                  <a:ext cx="4575240" cy="9828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>
                  <a:off x="-36720" y="5413320"/>
                  <a:ext cx="4575240" cy="48960"/>
                </a:xfrm>
                <a:prstGeom prst="line">
                  <a:avLst/>
                </a:prstGeom>
                <a:ln w="3240">
                  <a:solidFill>
                    <a:srgbClr val="4d4d4d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-36360" y="5428440"/>
                <a:ext cx="9153720" cy="1254240"/>
                <a:chOff x="-36360" y="5428440"/>
                <a:chExt cx="9153720" cy="125424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-36360" y="6136560"/>
                  <a:ext cx="9153720" cy="546120"/>
                  <a:chOff x="-36360" y="6136560"/>
                  <a:chExt cx="9153720" cy="54612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-36360" y="6682680"/>
                    <a:ext cx="9153720" cy="0"/>
                  </a:xfrm>
                  <a:prstGeom prst="line">
                    <a:avLst/>
                  </a:prstGeom>
                  <a:ln w="3240">
                    <a:solidFill>
                      <a:srgbClr val="4d4d4d">
                        <a:alpha val="2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-36360" y="6481080"/>
                    <a:ext cx="9153720" cy="0"/>
                  </a:xfrm>
                  <a:prstGeom prst="line">
                    <a:avLst/>
                  </a:prstGeom>
                  <a:ln w="3240">
                    <a:solidFill>
                      <a:srgbClr val="4d4d4d">
                        <a:alpha val="2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-36360" y="6298920"/>
                    <a:ext cx="9150120" cy="0"/>
                  </a:xfrm>
                  <a:prstGeom prst="line">
                    <a:avLst/>
                  </a:prstGeom>
                  <a:ln w="3240">
                    <a:solidFill>
                      <a:srgbClr val="4d4d4d">
                        <a:alpha val="2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-36360" y="6136560"/>
                    <a:ext cx="9150120" cy="0"/>
                  </a:xfrm>
                  <a:prstGeom prst="line">
                    <a:avLst/>
                  </a:prstGeom>
                  <a:ln w="3240">
                    <a:solidFill>
                      <a:srgbClr val="4d4d4d">
                        <a:alpha val="2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-36360" y="5428440"/>
                  <a:ext cx="9153720" cy="568800"/>
                  <a:chOff x="-36360" y="5428440"/>
                  <a:chExt cx="9153720" cy="56880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-36360" y="5997240"/>
                    <a:ext cx="9153720" cy="0"/>
                  </a:xfrm>
                  <a:prstGeom prst="line">
                    <a:avLst/>
                  </a:prstGeom>
                  <a:ln w="3240">
                    <a:solidFill>
                      <a:srgbClr val="4d4d4d">
                        <a:alpha val="2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flipV="1">
                    <a:off x="-36360" y="5863320"/>
                    <a:ext cx="9153720" cy="360"/>
                  </a:xfrm>
                  <a:prstGeom prst="line">
                    <a:avLst/>
                  </a:prstGeom>
                  <a:ln w="3240">
                    <a:solidFill>
                      <a:srgbClr val="4d4d4d">
                        <a:alpha val="2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-36360" y="5741640"/>
                    <a:ext cx="9153720" cy="3600"/>
                  </a:xfrm>
                  <a:prstGeom prst="line">
                    <a:avLst/>
                  </a:prstGeom>
                  <a:ln w="3240">
                    <a:solidFill>
                      <a:srgbClr val="4d4d4d">
                        <a:alpha val="2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-36360" y="5644800"/>
                    <a:ext cx="9111960" cy="0"/>
                  </a:xfrm>
                  <a:prstGeom prst="line">
                    <a:avLst/>
                  </a:prstGeom>
                  <a:ln w="3240">
                    <a:solidFill>
                      <a:srgbClr val="4d4d4d">
                        <a:alpha val="2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V="1">
                    <a:off x="-36360" y="5562000"/>
                    <a:ext cx="9153720" cy="4320"/>
                  </a:xfrm>
                  <a:prstGeom prst="line">
                    <a:avLst/>
                  </a:prstGeom>
                  <a:ln w="3240">
                    <a:solidFill>
                      <a:srgbClr val="4d4d4d">
                        <a:alpha val="2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-36360" y="5508000"/>
                    <a:ext cx="9153720" cy="2880"/>
                  </a:xfrm>
                  <a:prstGeom prst="line">
                    <a:avLst/>
                  </a:prstGeom>
                  <a:ln w="3240">
                    <a:solidFill>
                      <a:srgbClr val="4d4d4d">
                        <a:alpha val="2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V="1">
                    <a:off x="-36360" y="5477760"/>
                    <a:ext cx="9153720" cy="7560"/>
                  </a:xfrm>
                  <a:prstGeom prst="line">
                    <a:avLst/>
                  </a:prstGeom>
                  <a:ln w="3240">
                    <a:solidFill>
                      <a:srgbClr val="4d4d4d">
                        <a:alpha val="2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3960" y="5445360"/>
                    <a:ext cx="9113400" cy="0"/>
                  </a:xfrm>
                  <a:prstGeom prst="line">
                    <a:avLst/>
                  </a:prstGeom>
                  <a:ln w="3240">
                    <a:solidFill>
                      <a:srgbClr val="4d4d4d">
                        <a:alpha val="2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-36360" y="5428440"/>
                    <a:ext cx="9153720" cy="0"/>
                  </a:xfrm>
                  <a:prstGeom prst="line">
                    <a:avLst/>
                  </a:prstGeom>
                  <a:ln w="3240">
                    <a:solidFill>
                      <a:srgbClr val="4d4d4d">
                        <a:alpha val="20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98" name=""/>
            <p:cNvGrpSpPr/>
            <p:nvPr/>
          </p:nvGrpSpPr>
          <p:grpSpPr>
            <a:xfrm>
              <a:off x="515880" y="1581120"/>
              <a:ext cx="8020080" cy="4579920"/>
              <a:chOff x="515880" y="1581120"/>
              <a:chExt cx="8020080" cy="4579920"/>
            </a:xfrm>
          </p:grpSpPr>
          <p:sp>
            <p:nvSpPr>
              <p:cNvPr id="399" name=""/>
              <p:cNvSpPr/>
              <p:nvPr/>
            </p:nvSpPr>
            <p:spPr>
              <a:xfrm>
                <a:off x="544680" y="2421000"/>
                <a:ext cx="7991280" cy="2860560"/>
              </a:xfrm>
              <a:custGeom>
                <a:avLst/>
                <a:gdLst/>
                <a:ahLst/>
                <a:rect l="l" t="t" r="r" b="b"/>
                <a:pathLst>
                  <a:path w="5034" h="1908">
                    <a:moveTo>
                      <a:pt x="2502" y="0"/>
                    </a:moveTo>
                    <a:lnTo>
                      <a:pt x="1465" y="383"/>
                    </a:lnTo>
                    <a:lnTo>
                      <a:pt x="1783" y="383"/>
                    </a:lnTo>
                    <a:lnTo>
                      <a:pt x="0" y="1908"/>
                    </a:lnTo>
                    <a:lnTo>
                      <a:pt x="5034" y="1908"/>
                    </a:lnTo>
                    <a:lnTo>
                      <a:pt x="3229" y="383"/>
                    </a:lnTo>
                    <a:lnTo>
                      <a:pt x="3613" y="395"/>
                    </a:lnTo>
                    <a:lnTo>
                      <a:pt x="250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203640" y="1581120"/>
                <a:ext cx="2376360" cy="768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688"/>
                  </a:gs>
                  <a:gs pos="100000">
                    <a:srgbClr val="00635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肺炎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5880" y="4146480"/>
                <a:ext cx="1474920" cy="147312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  <a:ea typeface="黑体"/>
                  </a:rPr>
                  <a:t>肺炎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  <a:ea typeface="黑体"/>
                  </a:rPr>
                  <a:t>链球菌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45080" y="4146480"/>
                <a:ext cx="1474560" cy="147312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  <a:ea typeface="黑体"/>
                  </a:rPr>
                  <a:t>葡萄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  <a:ea typeface="黑体"/>
                  </a:rPr>
                  <a:t>球菌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092320" y="4146480"/>
                <a:ext cx="1474920" cy="147312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  <a:ea typeface="黑体"/>
                  </a:rPr>
                  <a:t>合胞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  <a:ea typeface="黑体"/>
                  </a:rPr>
                  <a:t>病毒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396040" y="4146480"/>
                <a:ext cx="1474560" cy="147312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  <a:ea typeface="黑体"/>
                  </a:rPr>
                  <a:t>腺病毒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061040" y="4146480"/>
                <a:ext cx="1474920" cy="147312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  <a:ea typeface="黑体"/>
                  </a:rPr>
                  <a:t>肺炎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Times New Roman"/>
                    <a:ea typeface="黑体"/>
                  </a:rPr>
                  <a:t>支原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15880" y="5765760"/>
                <a:ext cx="1474920" cy="3952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30196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28960" y="5765760"/>
                <a:ext cx="1474560" cy="3952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30196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60920" y="5765760"/>
                <a:ext cx="1474560" cy="3952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30196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88120" y="5765760"/>
                <a:ext cx="1474560" cy="3952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30196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053120" y="5765760"/>
                <a:ext cx="1474920" cy="3952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30196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 txBox="1"/>
              <p:nvPr/>
            </p:nvSpPr>
            <p:spPr>
              <a:xfrm>
                <a:off x="2786040" y="2924280"/>
                <a:ext cx="3514680" cy="100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FadeUp">
                  <a:avLst>
                    <a:gd name="adj" fmla="val 14495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0">
                      <a:noFill/>
                    </a:ln>
                    <a:solidFill>
                      <a:srgbClr val="ffff99"/>
                    </a:solidFill>
                    <a:effectLst>
                      <a:outerShdw dist="17819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HY헤드라인M"/>
                  </a:rPr>
                  <a:t>机体抵抗力下降</a:t>
                </a:r>
                <a:endParaRPr b="1" lang="en-US" sz="2400" spc="1" strike="noStrike">
                  <a:ln w="0">
                    <a:noFill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HY헤드라인M"/>
                  <a:ea typeface="HY헤드라인M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0">
                      <a:noFill/>
                    </a:ln>
                    <a:solidFill>
                      <a:srgbClr val="ffff99"/>
                    </a:solidFill>
                    <a:effectLst>
                      <a:outerShdw dist="17819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HY헤드라인M"/>
                  </a:rPr>
                  <a:t>营养缺乏、先心病、免疫缺陷等</a:t>
                </a:r>
                <a:endParaRPr b="1" lang="en-US" sz="2400" spc="1" strike="noStrike">
                  <a:ln w="0">
                    <a:noFill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HY헤드라인M"/>
                  <a:ea typeface="HY헤드라인M"/>
                </a:endParaRPr>
              </a:p>
            </p:txBody>
          </p:sp>
        </p:grpSp>
      </p:grp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025640" y="2543040"/>
          <a:ext cx="7278480" cy="2773440"/>
        </p:xfrm>
        <a:graphic>
          <a:graphicData uri="http://schemas.openxmlformats.org/drawingml/2006/table">
            <a:tbl>
              <a:tblPr/>
              <a:tblGrid>
                <a:gridCol w="984600"/>
                <a:gridCol w="3414600"/>
                <a:gridCol w="287928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部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特点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临床意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9688"/>
                          </a:solidFill>
                          <a:latin typeface="Times New Roman"/>
                          <a:ea typeface="黑体"/>
                        </a:rPr>
                        <a:t>鼻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鼻腔短小、无鼻毛，后鼻道狭窄，黏膜柔嫩，血管丰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感染，并易引起鼻塞而致呼吸困难，影响吸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9688"/>
                          </a:solidFill>
                          <a:latin typeface="Times New Roman"/>
                          <a:ea typeface="黑体"/>
                        </a:rPr>
                        <a:t>鼻窦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鼻窦口相对较大，且鼻窦黏膜与鼻腔黏膜相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鼻腔急性炎症时易致鼻窦炎，以上颌窦及筛窦最易感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db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838080" y="182880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（一）解剖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57280"/>
            <a:ext cx="813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第一节  小儿呼吸系统解剖、生理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95280" y="404640"/>
            <a:ext cx="3240000" cy="520560"/>
          </a:xfrm>
          <a:prstGeom prst="rect">
            <a:avLst/>
          </a:prstGeom>
          <a:gradFill rotWithShape="0">
            <a:gsLst>
              <a:gs pos="0">
                <a:srgbClr val="d49fff"/>
              </a:gs>
              <a:gs pos="50000">
                <a:srgbClr val="ffffff"/>
              </a:gs>
              <a:gs pos="100000">
                <a:srgbClr val="d49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e5f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肺炎的发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51280" y="692280"/>
            <a:ext cx="1081080" cy="93636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ff"/>
                </a:solidFill>
                <a:latin typeface="Arial"/>
                <a:ea typeface="黑体"/>
              </a:rPr>
              <a:t>病原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76720" y="1052640"/>
            <a:ext cx="574920" cy="144360"/>
          </a:xfrm>
          <a:prstGeom prst="rightArrow">
            <a:avLst>
              <a:gd name="adj1" fmla="val 50000"/>
              <a:gd name="adj2" fmla="val 99564"/>
            </a:avLst>
          </a:prstGeom>
          <a:gradFill rotWithShape="0">
            <a:gsLst>
              <a:gs pos="0">
                <a:srgbClr val="d49f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24720" y="836640"/>
            <a:ext cx="1440000" cy="57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53e"/>
              </a:gs>
              <a:gs pos="50000">
                <a:srgbClr val="009688"/>
              </a:gs>
              <a:gs pos="100000">
                <a:srgbClr val="0045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毒血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56000" y="162864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gradFill rotWithShape="0">
            <a:gsLst>
              <a:gs pos="0">
                <a:srgbClr val="ffffff"/>
              </a:gs>
              <a:gs pos="100000">
                <a:srgbClr val="d49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92360" y="1989000"/>
            <a:ext cx="19432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53e"/>
              </a:gs>
              <a:gs pos="50000">
                <a:srgbClr val="009688"/>
              </a:gs>
              <a:gs pos="100000">
                <a:srgbClr val="0045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00360" y="2276640"/>
            <a:ext cx="647640" cy="142560"/>
          </a:xfrm>
          <a:prstGeom prst="leftArrow">
            <a:avLst>
              <a:gd name="adj1" fmla="val 50000"/>
              <a:gd name="adj2" fmla="val 113573"/>
            </a:avLst>
          </a:prstGeom>
          <a:gradFill rotWithShape="0">
            <a:gsLst>
              <a:gs pos="0">
                <a:srgbClr val="ffffff"/>
              </a:gs>
              <a:gs pos="100000">
                <a:srgbClr val="d49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8360" y="2060640"/>
            <a:ext cx="2087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支气管腔狭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300720" y="2060640"/>
            <a:ext cx="2087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肺泡壁增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76360" y="2637000"/>
            <a:ext cx="142920" cy="433080"/>
          </a:xfrm>
          <a:prstGeom prst="downArrow">
            <a:avLst>
              <a:gd name="adj1" fmla="val 50000"/>
              <a:gd name="adj2" fmla="val 75756"/>
            </a:avLst>
          </a:prstGeom>
          <a:gradFill rotWithShape="0">
            <a:gsLst>
              <a:gs pos="0">
                <a:srgbClr val="ffffff"/>
              </a:gs>
              <a:gs pos="100000">
                <a:srgbClr val="d49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08720" y="2637000"/>
            <a:ext cx="142920" cy="433080"/>
          </a:xfrm>
          <a:prstGeom prst="downArrow">
            <a:avLst>
              <a:gd name="adj1" fmla="val 50000"/>
              <a:gd name="adj2" fmla="val 75756"/>
            </a:avLst>
          </a:prstGeom>
          <a:gradFill rotWithShape="0">
            <a:gsLst>
              <a:gs pos="0">
                <a:srgbClr val="ffffff"/>
              </a:gs>
              <a:gs pos="100000">
                <a:srgbClr val="d49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4000" y="3068640"/>
            <a:ext cx="2087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通气障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372360" y="3068640"/>
            <a:ext cx="2087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换气障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16360" y="3068640"/>
            <a:ext cx="2952720" cy="649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0046"/>
              </a:gs>
              <a:gs pos="50000">
                <a:srgbClr val="990099"/>
              </a:gs>
              <a:gs pos="100000">
                <a:srgbClr val="4600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缺氧、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CO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潴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67280" y="3284640"/>
            <a:ext cx="505080" cy="142920"/>
          </a:xfrm>
          <a:prstGeom prst="leftArrow">
            <a:avLst>
              <a:gd name="adj1" fmla="val 50000"/>
              <a:gd name="adj2" fmla="val 88350"/>
            </a:avLst>
          </a:prstGeom>
          <a:gradFill rotWithShape="0">
            <a:gsLst>
              <a:gs pos="0">
                <a:srgbClr val="ffffff"/>
              </a:gs>
              <a:gs pos="100000">
                <a:srgbClr val="d49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356000" y="3645000"/>
            <a:ext cx="216000" cy="1871640"/>
          </a:xfrm>
          <a:prstGeom prst="downArrow">
            <a:avLst>
              <a:gd name="adj1" fmla="val 50000"/>
              <a:gd name="adj2" fmla="val 216625"/>
            </a:avLst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651640" y="836640"/>
            <a:ext cx="1008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毒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34160" y="1052640"/>
            <a:ext cx="717480" cy="144360"/>
          </a:xfrm>
          <a:prstGeom prst="rightArrow">
            <a:avLst>
              <a:gd name="adj1" fmla="val 50000"/>
              <a:gd name="adj2" fmla="val 124252"/>
            </a:avLst>
          </a:prstGeom>
          <a:gradFill rotWithShape="0">
            <a:gsLst>
              <a:gs pos="0">
                <a:srgbClr val="d49f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508720" y="227664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gradFill rotWithShape="0">
            <a:gsLst>
              <a:gs pos="0">
                <a:srgbClr val="d49f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411280" y="3284640"/>
            <a:ext cx="501840" cy="144360"/>
          </a:xfrm>
          <a:prstGeom prst="rightArrow">
            <a:avLst>
              <a:gd name="adj1" fmla="val 50000"/>
              <a:gd name="adj2" fmla="val 86908"/>
            </a:avLst>
          </a:prstGeom>
          <a:gradFill rotWithShape="0">
            <a:gsLst>
              <a:gs pos="0">
                <a:srgbClr val="d49f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00720" y="3933720"/>
            <a:ext cx="574560" cy="144720"/>
          </a:xfrm>
          <a:prstGeom prst="rightArrow">
            <a:avLst>
              <a:gd name="adj1" fmla="val 50000"/>
              <a:gd name="adj2" fmla="val 99254"/>
            </a:avLst>
          </a:prstGeom>
          <a:gradFill rotWithShape="0">
            <a:gsLst>
              <a:gs pos="0">
                <a:srgbClr val="d49f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80000" y="4149720"/>
            <a:ext cx="647640" cy="142920"/>
          </a:xfrm>
          <a:prstGeom prst="leftArrow">
            <a:avLst>
              <a:gd name="adj1" fmla="val 50000"/>
              <a:gd name="adj2" fmla="val 113287"/>
            </a:avLst>
          </a:prstGeom>
          <a:gradFill rotWithShape="0">
            <a:gsLst>
              <a:gs pos="0">
                <a:srgbClr val="ffffff"/>
              </a:gs>
              <a:gs pos="100000">
                <a:srgbClr val="d49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76720" y="3789360"/>
            <a:ext cx="1656000" cy="50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酸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00720" y="4508640"/>
            <a:ext cx="574560" cy="144360"/>
          </a:xfrm>
          <a:prstGeom prst="rightArrow">
            <a:avLst>
              <a:gd name="adj1" fmla="val 50000"/>
              <a:gd name="adj2" fmla="val 99501"/>
            </a:avLst>
          </a:prstGeom>
          <a:gradFill rotWithShape="0">
            <a:gsLst>
              <a:gs pos="0">
                <a:srgbClr val="d49f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76720" y="4365720"/>
            <a:ext cx="2087640" cy="50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53e"/>
              </a:gs>
              <a:gs pos="50000">
                <a:srgbClr val="009688"/>
              </a:gs>
              <a:gs pos="100000">
                <a:srgbClr val="0045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79640" y="3933720"/>
            <a:ext cx="1800360" cy="50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肺动脉高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332000" y="4076640"/>
            <a:ext cx="647640" cy="142920"/>
          </a:xfrm>
          <a:prstGeom prst="leftArrow">
            <a:avLst>
              <a:gd name="adj1" fmla="val 50000"/>
              <a:gd name="adj2" fmla="val 113287"/>
            </a:avLst>
          </a:prstGeom>
          <a:gradFill rotWithShape="0">
            <a:gsLst>
              <a:gs pos="0">
                <a:srgbClr val="ffffff"/>
              </a:gs>
              <a:gs pos="100000">
                <a:srgbClr val="d49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4000" y="3933720"/>
            <a:ext cx="1008000" cy="50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53e"/>
              </a:gs>
              <a:gs pos="50000">
                <a:srgbClr val="009688"/>
              </a:gs>
              <a:gs pos="100000">
                <a:srgbClr val="0045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心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076720" y="4870440"/>
            <a:ext cx="2087640" cy="50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53e"/>
              </a:gs>
              <a:gs pos="50000">
                <a:srgbClr val="009688"/>
              </a:gs>
              <a:gs pos="100000">
                <a:srgbClr val="0045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80000" y="4797360"/>
            <a:ext cx="647640" cy="142920"/>
          </a:xfrm>
          <a:prstGeom prst="leftArrow">
            <a:avLst>
              <a:gd name="adj1" fmla="val 50000"/>
              <a:gd name="adj2" fmla="val 113287"/>
            </a:avLst>
          </a:prstGeom>
          <a:gradFill rotWithShape="0">
            <a:gsLst>
              <a:gs pos="0">
                <a:srgbClr val="ffffff"/>
              </a:gs>
              <a:gs pos="100000">
                <a:srgbClr val="d49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35280" y="4581360"/>
            <a:ext cx="1944720" cy="50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心肌营养不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1116720" y="4219920"/>
            <a:ext cx="430200" cy="863640"/>
          </a:xfrm>
          <a:custGeom>
            <a:avLst/>
            <a:gdLst>
              <a:gd name="textAreaLeft" fmla="*/ 0 w 430200"/>
              <a:gd name="textAreaRight" fmla="*/ 430560 w 430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428" stAng="10800000" swAng="5400000"/>
                <a:lnTo>
                  <a:pt x="13667" y="3732"/>
                </a:lnTo>
                <a:lnTo>
                  <a:pt x="13667" y="0"/>
                </a:lnTo>
                <a:lnTo>
                  <a:pt x="21600" y="6079"/>
                </a:lnTo>
                <a:lnTo>
                  <a:pt x="13667" y="12158"/>
                </a:lnTo>
                <a:lnTo>
                  <a:pt x="13667" y="8426"/>
                </a:lnTo>
                <a:lnTo>
                  <a:pt x="12427" y="8426"/>
                </a:lnTo>
                <a:arcTo wR="7733" hR="3734" stAng="16200000" swAng="-5400000"/>
                <a:lnTo>
                  <a:pt x="4694" y="21600"/>
                </a:lnTo>
                <a:close/>
              </a:path>
            </a:pathLst>
          </a:custGeom>
          <a:gradFill rotWithShape="0">
            <a:gsLst>
              <a:gs pos="0">
                <a:srgbClr val="d49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867280" y="5516640"/>
            <a:ext cx="2087640" cy="50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53e"/>
              </a:gs>
              <a:gs pos="50000">
                <a:srgbClr val="009688"/>
              </a:gs>
              <a:gs pos="100000">
                <a:srgbClr val="0045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419640" y="5516640"/>
            <a:ext cx="2087280" cy="50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脑血管扩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08720" y="5734080"/>
            <a:ext cx="358560" cy="142920"/>
          </a:xfrm>
          <a:prstGeom prst="rightArrow">
            <a:avLst>
              <a:gd name="adj1" fmla="val 50000"/>
              <a:gd name="adj2" fmla="val 62720"/>
            </a:avLst>
          </a:prstGeom>
          <a:gradFill rotWithShape="0">
            <a:gsLst>
              <a:gs pos="0">
                <a:srgbClr val="d49f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0920" y="5950080"/>
            <a:ext cx="2089080" cy="50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中毒性心肌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1280" y="4510080"/>
            <a:ext cx="215640" cy="1440000"/>
          </a:xfrm>
          <a:prstGeom prst="upArrow">
            <a:avLst>
              <a:gd name="adj1" fmla="val 50000"/>
              <a:gd name="adj2" fmla="val 166945"/>
            </a:avLst>
          </a:prstGeom>
          <a:gradFill rotWithShape="0">
            <a:gsLst>
              <a:gs pos="0">
                <a:srgbClr val="d49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04360" y="1413000"/>
            <a:ext cx="71280" cy="4895640"/>
          </a:xfrm>
          <a:prstGeom prst="rect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11280" y="6237360"/>
            <a:ext cx="6264360" cy="216000"/>
          </a:xfrm>
          <a:prstGeom prst="leftArrow">
            <a:avLst>
              <a:gd name="adj1" fmla="val 50000"/>
              <a:gd name="adj2" fmla="val 725042"/>
            </a:avLst>
          </a:prstGeom>
          <a:gradFill rotWithShape="0">
            <a:gsLst>
              <a:gs pos="0">
                <a:srgbClr val="ffffff"/>
              </a:gs>
              <a:gs pos="100000">
                <a:srgbClr val="d49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956720" y="5734080"/>
            <a:ext cx="647640" cy="142920"/>
          </a:xfrm>
          <a:prstGeom prst="leftArrow">
            <a:avLst>
              <a:gd name="adj1" fmla="val 50000"/>
              <a:gd name="adj2" fmla="val 113287"/>
            </a:avLst>
          </a:prstGeom>
          <a:gradFill rotWithShape="0">
            <a:gsLst>
              <a:gs pos="0">
                <a:srgbClr val="ffffff"/>
              </a:gs>
              <a:gs pos="100000">
                <a:srgbClr val="d49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307280" y="5084640"/>
            <a:ext cx="1297080" cy="142920"/>
          </a:xfrm>
          <a:prstGeom prst="leftArrow">
            <a:avLst>
              <a:gd name="adj1" fmla="val 50000"/>
              <a:gd name="adj2" fmla="val 226889"/>
            </a:avLst>
          </a:prstGeom>
          <a:gradFill rotWithShape="0">
            <a:gsLst>
              <a:gs pos="0">
                <a:srgbClr val="ffffff"/>
              </a:gs>
              <a:gs pos="100000">
                <a:srgbClr val="d49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619280" y="692280"/>
            <a:ext cx="42480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800" spc="-1" strike="noStrike">
                <a:solidFill>
                  <a:srgbClr val="009900"/>
                </a:solidFill>
                <a:latin typeface="黑体"/>
                <a:ea typeface="黑体"/>
              </a:rPr>
              <a:t>第四节  小儿肺炎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181880" y="-762840"/>
            <a:ext cx="10325520" cy="7308000"/>
            <a:chOff x="-1181880" y="-762840"/>
            <a:chExt cx="10325520" cy="7308000"/>
          </a:xfrm>
        </p:grpSpPr>
        <p:sp>
          <p:nvSpPr>
            <p:cNvPr id="455" name=""/>
            <p:cNvSpPr/>
            <p:nvPr/>
          </p:nvSpPr>
          <p:spPr>
            <a:xfrm flipH="1" rot="10444200">
              <a:off x="-923760" y="-316080"/>
              <a:ext cx="8923320" cy="5456520"/>
            </a:xfrm>
            <a:custGeom>
              <a:avLst/>
              <a:gdLst>
                <a:gd name="textAreaLeft" fmla="*/ 0 w 8923320"/>
                <a:gd name="textAreaRight" fmla="*/ 8923320 w 8923320"/>
                <a:gd name="textAreaTop" fmla="*/ 0 h 5456520"/>
                <a:gd name="textAreaBottom" fmla="*/ 5456880 h 545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295" y="11585"/>
                  </a:moveTo>
                  <a:arcTo wR="-5561" hR="-5561" stAng="10313155" swAng="-7494215"/>
                  <a:lnTo>
                    <a:pt x="3432" y="2904"/>
                  </a:lnTo>
                  <a:arcTo wR="10800" hR="10800" stAng="-7981060" swAng="7494215"/>
                  <a:lnTo>
                    <a:pt x="24165" y="8895"/>
                  </a:lnTo>
                  <a:lnTo>
                    <a:pt x="19649" y="14912"/>
                  </a:lnTo>
                  <a:lnTo>
                    <a:pt x="13632" y="10396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cc00"/>
                </a:gs>
              </a:gsLst>
              <a:lin ang="158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5867280" y="3768840"/>
              <a:ext cx="1969920" cy="1747800"/>
              <a:chOff x="5867280" y="3768840"/>
              <a:chExt cx="1969920" cy="1747800"/>
            </a:xfrm>
          </p:grpSpPr>
          <p:sp>
            <p:nvSpPr>
              <p:cNvPr id="457" name=""/>
              <p:cNvSpPr/>
              <p:nvPr/>
            </p:nvSpPr>
            <p:spPr>
              <a:xfrm>
                <a:off x="6489000" y="5280120"/>
                <a:ext cx="1348200" cy="23652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c6a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>
                <a:hlinkClick r:id="rId2" action="ppaction://hlinksldjump"/>
              </p:cNvPr>
              <p:cNvSpPr/>
              <p:nvPr/>
            </p:nvSpPr>
            <p:spPr>
              <a:xfrm>
                <a:off x="5867280" y="3768840"/>
                <a:ext cx="1735560" cy="17334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ccff"/>
                    </a:solidFill>
                    <a:latin typeface="黑体"/>
                    <a:ea typeface="黑体"/>
                  </a:rPr>
                  <a:t>护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ccff"/>
                    </a:solidFill>
                    <a:latin typeface="黑体"/>
                    <a:ea typeface="黑体"/>
                  </a:rPr>
                  <a:t>措施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4211640" y="4502160"/>
              <a:ext cx="1855800" cy="1755720"/>
              <a:chOff x="4211640" y="4502160"/>
              <a:chExt cx="1855800" cy="1755720"/>
            </a:xfrm>
          </p:grpSpPr>
          <p:sp>
            <p:nvSpPr>
              <p:cNvPr id="460" name=""/>
              <p:cNvSpPr/>
              <p:nvPr/>
            </p:nvSpPr>
            <p:spPr>
              <a:xfrm>
                <a:off x="4817880" y="6021360"/>
                <a:ext cx="1249560" cy="23652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c6a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>
                <a:hlinkClick r:id="rId4" action="ppaction://hlinksldjump"/>
              </p:cNvPr>
              <p:cNvSpPr/>
              <p:nvPr/>
            </p:nvSpPr>
            <p:spPr>
              <a:xfrm>
                <a:off x="4211640" y="4502160"/>
                <a:ext cx="1687320" cy="17352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ccff"/>
                    </a:solidFill>
                    <a:latin typeface="黑体"/>
                    <a:ea typeface="黑体"/>
                  </a:rPr>
                  <a:t>护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ccff"/>
                    </a:solidFill>
                    <a:latin typeface="黑体"/>
                    <a:ea typeface="黑体"/>
                  </a:rPr>
                  <a:t>目标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484360" y="4797360"/>
              <a:ext cx="1898640" cy="1747800"/>
              <a:chOff x="2484360" y="4797360"/>
              <a:chExt cx="1898640" cy="1747800"/>
            </a:xfrm>
          </p:grpSpPr>
          <p:sp>
            <p:nvSpPr>
              <p:cNvPr id="463" name=""/>
              <p:cNvSpPr/>
              <p:nvPr/>
            </p:nvSpPr>
            <p:spPr>
              <a:xfrm>
                <a:off x="3133800" y="6308640"/>
                <a:ext cx="1249200" cy="23652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c6a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>
                <a:hlinkClick r:id="rId6" action="ppaction://hlinksldjump"/>
              </p:cNvPr>
              <p:cNvSpPr/>
              <p:nvPr/>
            </p:nvSpPr>
            <p:spPr>
              <a:xfrm>
                <a:off x="2484360" y="4797360"/>
                <a:ext cx="1649520" cy="173376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ccff"/>
                    </a:solidFill>
                    <a:latin typeface="黑体"/>
                    <a:ea typeface="黑体"/>
                  </a:rPr>
                  <a:t>护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ccff"/>
                    </a:solidFill>
                    <a:latin typeface="黑体"/>
                    <a:ea typeface="黑体"/>
                  </a:rPr>
                  <a:t>诊断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684360" y="4653000"/>
              <a:ext cx="1900080" cy="1755720"/>
              <a:chOff x="684360" y="4653000"/>
              <a:chExt cx="1900080" cy="1755720"/>
            </a:xfrm>
          </p:grpSpPr>
          <p:sp>
            <p:nvSpPr>
              <p:cNvPr id="466" name=""/>
              <p:cNvSpPr/>
              <p:nvPr/>
            </p:nvSpPr>
            <p:spPr>
              <a:xfrm>
                <a:off x="1335240" y="6172200"/>
                <a:ext cx="1249200" cy="23652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c6a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>
                <a:hlinkClick r:id="" action="ppaction://hlinkshowjump?jump=nextslide"/>
              </p:cNvPr>
              <p:cNvSpPr/>
              <p:nvPr/>
            </p:nvSpPr>
            <p:spPr>
              <a:xfrm>
                <a:off x="684360" y="4653000"/>
                <a:ext cx="1679760" cy="173520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ccff"/>
                    </a:solidFill>
                    <a:latin typeface="HY견고딕"/>
                    <a:ea typeface="黑体"/>
                  </a:rPr>
                  <a:t>护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ccff"/>
                    </a:solidFill>
                    <a:latin typeface="HY견고딕"/>
                    <a:ea typeface="黑体"/>
                  </a:rPr>
                  <a:t>评估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 rot="18924000">
              <a:off x="4416120" y="3688920"/>
              <a:ext cx="5461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8924000">
              <a:off x="5830560" y="2704680"/>
              <a:ext cx="5461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8924000">
              <a:off x="2749320" y="4073040"/>
              <a:ext cx="5461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8924000">
              <a:off x="915840" y="4051080"/>
              <a:ext cx="54612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7093080" y="2401920"/>
              <a:ext cx="2050560" cy="1747800"/>
              <a:chOff x="7093080" y="2401920"/>
              <a:chExt cx="2050560" cy="1747800"/>
            </a:xfrm>
          </p:grpSpPr>
          <p:sp>
            <p:nvSpPr>
              <p:cNvPr id="473" name=""/>
              <p:cNvSpPr/>
              <p:nvPr/>
            </p:nvSpPr>
            <p:spPr>
              <a:xfrm>
                <a:off x="7738920" y="3913200"/>
                <a:ext cx="1404720" cy="23652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c6a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>
                <a:hlinkClick r:id="rId9" action="ppaction://hlinksldjump"/>
              </p:cNvPr>
              <p:cNvSpPr/>
              <p:nvPr/>
            </p:nvSpPr>
            <p:spPr>
              <a:xfrm>
                <a:off x="7093080" y="2401920"/>
                <a:ext cx="1808280" cy="17337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ccff"/>
                    </a:solidFill>
                    <a:latin typeface="黑体"/>
                    <a:ea typeface="黑体"/>
                  </a:rPr>
                  <a:t>护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ccff"/>
                    </a:solidFill>
                    <a:latin typeface="黑体"/>
                    <a:ea typeface="黑体"/>
                  </a:rPr>
                  <a:t>评价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" name=""/>
            <p:cNvSpPr txBox="1"/>
            <p:nvPr/>
          </p:nvSpPr>
          <p:spPr>
            <a:xfrm rot="20010600">
              <a:off x="2325600" y="2073240"/>
              <a:ext cx="4630680" cy="1908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ffcc66"/>
                  </a:solidFill>
                  <a:effectLst>
                    <a:outerShdw dist="17819" dir="2700000" blurRad="0" rotWithShape="0">
                      <a:srgbClr val="98793c"/>
                    </a:outerShdw>
                  </a:effectLst>
                  <a:latin typeface="隶书"/>
                </a:rPr>
                <a:t>肺炎患儿的护理</a:t>
              </a:r>
              <a:endParaRPr b="0" lang="en-US" sz="2400" spc="1" strike="noStrike">
                <a:ln w="0">
                  <a:noFill/>
                </a:ln>
                <a:solidFill>
                  <a:srgbClr val="ffcc66"/>
                </a:solidFill>
                <a:effectLst>
                  <a:outerShdw dist="17819" dir="2700000" blurRad="0" rotWithShape="0">
                    <a:srgbClr val="98793c"/>
                  </a:outerShdw>
                </a:effectLst>
                <a:latin typeface="隶书"/>
                <a:ea typeface="隶书"/>
              </a:endParaRPr>
            </a:p>
          </p:txBody>
        </p:sp>
      </p:grpSp>
      <p:pic>
        <p:nvPicPr>
          <p:cNvPr id="476" name="" descr=""/>
          <p:cNvPicPr/>
          <p:nvPr/>
        </p:nvPicPr>
        <p:blipFill>
          <a:blip r:embed="rId11"/>
          <a:stretch/>
        </p:blipFill>
        <p:spPr>
          <a:xfrm>
            <a:off x="2340000" y="1700280"/>
            <a:ext cx="1560600" cy="1441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813960" y="2243160"/>
            <a:ext cx="7272360" cy="316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（一）健康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有无上呼吸道感染或支气管炎病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有无麻疹、百日咳等病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有无发热、咳嗽、气促、发绀等症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食欲情况有无变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生长发育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6.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有无营养障碍性疾病、先天性心脏病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133720" y="838080"/>
            <a:ext cx="3095640" cy="71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评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755280" y="2420640"/>
            <a:ext cx="8007480" cy="358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轻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症状：全身症状 ：发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呼吸系统症状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: 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咳嗽    气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体征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: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鼻翼扇动、唇周发绀、三凹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肺部可闻及较固定的中、细湿啰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622440"/>
            <a:ext cx="3095640" cy="71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评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43000" y="18288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二）身体状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rot="17095800">
            <a:off x="7197480" y="3956760"/>
            <a:ext cx="1297080" cy="5270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49fff"/>
              </a:gs>
              <a:gs pos="100000">
                <a:srgbClr val="ef9100"/>
              </a:gs>
            </a:gsLst>
            <a:lin ang="62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6705720" y="990720"/>
            <a:ext cx="2089080" cy="1855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1547280" y="2492280"/>
            <a:ext cx="6985080" cy="367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8842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重症 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出现其它系统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842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）循环系统：主要是心肌炎和心力衰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842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心肌炎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：面色苍白、心动过速、心音低钝、心律不齐，心电图显示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ST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段下移和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波低平、倒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81080" y="622440"/>
            <a:ext cx="3095640" cy="71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评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219320" y="19810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二）身体状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187280" y="2276640"/>
            <a:ext cx="77774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6400" indent="-17064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心力衰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06400" indent="-1706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呼吸突然加快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06400" indent="-1706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心率增快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06400" indent="-1706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心音低钝，或出现奔马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06400" indent="-1706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极度烦躁不安，明显发绀，面色发灰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06400" indent="-1706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颈静脉怒张，肝迅速增大，达肋下</a:t>
            </a: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3cm</a:t>
            </a: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以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06400" indent="-1706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⑥</a:t>
            </a:r>
            <a:r>
              <a:rPr b="1" lang="zh-CN" sz="2800" spc="-1" strike="noStrike">
                <a:solidFill>
                  <a:srgbClr val="009688"/>
                </a:solidFill>
                <a:latin typeface="Arial"/>
              </a:rPr>
              <a:t>尿少或无尿，颜面或下肢水肿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981080" y="622440"/>
            <a:ext cx="3095640" cy="71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评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066680" y="190512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二）身体状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2"/>
          <a:srcRect l="0" t="2736" r="1667" b="4734"/>
          <a:stretch/>
        </p:blipFill>
        <p:spPr>
          <a:xfrm>
            <a:off x="5940360" y="1844640"/>
            <a:ext cx="2521080" cy="1940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821960" y="3331800"/>
            <a:ext cx="5986440" cy="199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）神经系统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: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中毒性脑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）消化系统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: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中毒性肠麻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）其他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: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酸中毒、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622440"/>
            <a:ext cx="3095640" cy="71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评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190512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二）身体状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057400" y="28195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9688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重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14320" y="2679840"/>
            <a:ext cx="7532640" cy="21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本病病情较重，发病率、死亡率较高，病程较长，常需住院治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患儿   烦躁不安、哭闹、易怒、易激惹及不合作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家长   焦虑、自责、忧虑、抱怨等心理反应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81080" y="622440"/>
            <a:ext cx="3095640" cy="71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评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205740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三）心理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社会状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2590560"/>
            <a:ext cx="3600720" cy="58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血象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42920" y="3139920"/>
            <a:ext cx="3673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．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线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肺部有斑片状阴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71640" y="4292640"/>
            <a:ext cx="3600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．病原学检查  可进行病毒分离、细菌培养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2"/>
          <a:srcRect l="16501" t="15543" r="8754" b="3951"/>
          <a:stretch/>
        </p:blipFill>
        <p:spPr>
          <a:xfrm>
            <a:off x="4722840" y="2157480"/>
            <a:ext cx="3673440" cy="247644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042920" y="17002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四）辅助检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81080" y="622440"/>
            <a:ext cx="3095640" cy="71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评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10243200">
            <a:off x="4140000" y="3212280"/>
            <a:ext cx="922320" cy="4431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49fff"/>
              </a:gs>
              <a:gs pos="100000">
                <a:srgbClr val="ef9100"/>
              </a:gs>
            </a:gsLst>
            <a:lin ang="5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685800" y="3301560"/>
            <a:ext cx="8305920" cy="22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．控制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．改善肺的通气功能，对症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．防治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．脓胸和脓气胸者应及时进行穿刺引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042920" y="21286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五）治疗要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622440"/>
            <a:ext cx="3095640" cy="71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评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rcRect l="14560" t="4734" r="16162" b="18494"/>
          <a:stretch/>
        </p:blipFill>
        <p:spPr>
          <a:xfrm>
            <a:off x="5292720" y="1844640"/>
            <a:ext cx="2448000" cy="165744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 flipH="1" rot="19560000">
            <a:off x="3804120" y="2921040"/>
            <a:ext cx="1440000" cy="5270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49fff"/>
              </a:gs>
              <a:gs pos="100000">
                <a:srgbClr val="ef9100"/>
              </a:gs>
            </a:gsLst>
            <a:lin ang="87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95480" y="1216080"/>
            <a:ext cx="253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43000" y="2743200"/>
          <a:ext cx="7559640" cy="3710160"/>
        </p:xfrm>
        <a:graphic>
          <a:graphicData uri="http://schemas.openxmlformats.org/drawingml/2006/table">
            <a:tbl>
              <a:tblPr/>
              <a:tblGrid>
                <a:gridCol w="1542960"/>
                <a:gridCol w="2995560"/>
                <a:gridCol w="3021120"/>
              </a:tblGrid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部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特点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临床意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9688"/>
                          </a:solidFill>
                          <a:latin typeface="Times New Roman"/>
                          <a:ea typeface="黑体"/>
                        </a:rPr>
                        <a:t>鼻泪管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鼻泪管较短，开口瓣膜发育不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呼吸道感染时易致结膜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9688"/>
                          </a:solidFill>
                          <a:latin typeface="Times New Roman"/>
                          <a:ea typeface="黑体"/>
                        </a:rPr>
                        <a:t>咽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咽部狭窄且垂直，咽鼓管宽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短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直，呈水平位。腭扁桃体在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岁内发育差，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~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岁时发育达高峰，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~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岁后逐渐退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鼻咽炎时易致中耳炎；扁桃体炎多见于年长儿，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岁以内少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db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838080" y="18288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（一）解剖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557280"/>
            <a:ext cx="813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第一节  小儿呼吸系统解剖、生理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042920" y="622440"/>
            <a:ext cx="5400720" cy="71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诊断及合作性问题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43120" y="2727360"/>
            <a:ext cx="7616520" cy="565200"/>
          </a:xfrm>
          <a:prstGeom prst="rect">
            <a:avLst/>
          </a:prstGeom>
          <a:gradFill rotWithShape="0">
            <a:gsLst>
              <a:gs pos="0">
                <a:srgbClr val="33ccff">
                  <a:alpha val="60392"/>
                </a:srgbClr>
              </a:gs>
              <a:gs pos="100000">
                <a:srgbClr val="ffff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14320" y="4440240"/>
            <a:ext cx="7648560" cy="566640"/>
          </a:xfrm>
          <a:prstGeom prst="rect">
            <a:avLst/>
          </a:prstGeom>
          <a:gradFill rotWithShape="0">
            <a:gsLst>
              <a:gs pos="0">
                <a:srgbClr val="33ccff">
                  <a:alpha val="60392"/>
                </a:srgbClr>
              </a:gs>
              <a:gs pos="100000">
                <a:srgbClr val="ffff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47800" y="3571920"/>
            <a:ext cx="7648560" cy="566640"/>
          </a:xfrm>
          <a:prstGeom prst="rect">
            <a:avLst/>
          </a:prstGeom>
          <a:gradFill rotWithShape="0">
            <a:gsLst>
              <a:gs pos="0">
                <a:srgbClr val="33ccff">
                  <a:alpha val="60392"/>
                </a:srgbClr>
              </a:gs>
              <a:gs pos="100000">
                <a:srgbClr val="ffff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17560" y="5316480"/>
            <a:ext cx="7648560" cy="566640"/>
          </a:xfrm>
          <a:prstGeom prst="rect">
            <a:avLst/>
          </a:prstGeom>
          <a:gradFill rotWithShape="0">
            <a:gsLst>
              <a:gs pos="0">
                <a:srgbClr val="33ccff">
                  <a:alpha val="60392"/>
                </a:srgbClr>
              </a:gs>
              <a:gs pos="100000">
                <a:srgbClr val="ffff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35120" y="3645000"/>
            <a:ext cx="2324160" cy="482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175d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体温过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6280" y="2795760"/>
            <a:ext cx="2313000" cy="482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175d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清理呼吸道无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28640" y="4533840"/>
            <a:ext cx="2330640" cy="4827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175d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营养失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9800" y="5392800"/>
            <a:ext cx="2319480" cy="482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175d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潜在并发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28720" y="1868400"/>
            <a:ext cx="7648560" cy="567000"/>
          </a:xfrm>
          <a:prstGeom prst="rect">
            <a:avLst/>
          </a:prstGeom>
          <a:gradFill rotWithShape="0">
            <a:gsLst>
              <a:gs pos="0">
                <a:srgbClr val="33ccff">
                  <a:alpha val="60392"/>
                </a:srgbClr>
              </a:gs>
              <a:gs pos="100000">
                <a:srgbClr val="ffff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39800" y="1952640"/>
            <a:ext cx="2319480" cy="4827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175d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气体交换受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089160" y="1844640"/>
            <a:ext cx="4219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与肺部炎症有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24080" y="3535200"/>
            <a:ext cx="4543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与肺部感染有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41720" y="4365720"/>
            <a:ext cx="48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与摄入不足、消耗增加有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060720" y="2779560"/>
            <a:ext cx="54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与呼吸道分泌物粘、多、不易排出有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41720" y="5300640"/>
            <a:ext cx="48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心力衰竭、中毒性脑病、中毒性肠麻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1066320" y="2438280"/>
            <a:ext cx="720108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患儿无气促、紫绀，呼吸正常；痰液能及时清除，痰鸣音消失；体温恢复正常；患儿得到充足的营养，体重恢复正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752480" y="838080"/>
            <a:ext cx="3095640" cy="71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目标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rcRect l="3827" t="3401" r="3827" b="4299"/>
          <a:stretch/>
        </p:blipFill>
        <p:spPr>
          <a:xfrm>
            <a:off x="5003640" y="4708440"/>
            <a:ext cx="1838520" cy="12765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rcRect l="4607" t="6141" r="9036" b="9069"/>
          <a:stretch/>
        </p:blipFill>
        <p:spPr>
          <a:xfrm>
            <a:off x="6588000" y="4713120"/>
            <a:ext cx="1656000" cy="1308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2949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08252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（一）改善呼吸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825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．环境与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825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保持室内空气新鲜，尽量使患儿安静，置患儿于有利肺扩张的体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825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．按医嘱给氧    鼻导管、面罩、头罩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825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．按医嘱给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28800" y="838080"/>
            <a:ext cx="3095640" cy="71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措施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2"/>
          <a:srcRect l="1667" t="4734" r="3302" b="2736"/>
          <a:stretch/>
        </p:blipFill>
        <p:spPr>
          <a:xfrm>
            <a:off x="900000" y="1700280"/>
            <a:ext cx="2519640" cy="20066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rcRect l="0" t="2736" r="3302" b="0"/>
          <a:stretch/>
        </p:blipFill>
        <p:spPr>
          <a:xfrm>
            <a:off x="3637080" y="1700280"/>
            <a:ext cx="2447640" cy="20145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6300720" y="1700280"/>
            <a:ext cx="2519280" cy="203184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447920" y="380880"/>
            <a:ext cx="4495680" cy="7034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688"/>
                </a:solidFill>
                <a:latin typeface="Arial"/>
              </a:rPr>
              <a:t>肺炎患儿吸氧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332000" y="371628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鼻导管吸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211640" y="37162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面罩吸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77080" y="37162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头罩吸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71640" y="4149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吸氧注意事项：</a:t>
            </a:r>
            <a:r>
              <a:rPr b="0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①吸氧前应先清除鼻腔内分泌物。②吸氧过程中应经常检查导管是否通畅。③每日应更换鼻导管一次，两侧鼻孔宜交替使用。④湿化瓶内蒸馏水应每日更换一次；也可将湿化液加温至</a:t>
            </a:r>
            <a:r>
              <a:rPr b="0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37℃</a:t>
            </a:r>
            <a:r>
              <a:rPr b="0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使氧气加温、加湿。⑤氧浓度不宜过高，持续时间不宜过长，以免发生晶体后纤维增生造成失明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914040" y="2819520"/>
            <a:ext cx="7489800" cy="31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调节室内空气湿度，嘱患儿多饮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协助患儿更换体位并拍背，指导有效咳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超声雾化吸入或蒸气吸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必要时给予吸痰，但不能过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按医嘱给解痉、去痰等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7394400" y="1924200"/>
            <a:ext cx="1138320" cy="121752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752480" y="838080"/>
            <a:ext cx="3095640" cy="71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措施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66680" y="198108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二）保持呼吸道通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3"/>
          <a:srcRect l="0" t="0" r="2630" b="0"/>
          <a:stretch/>
        </p:blipFill>
        <p:spPr>
          <a:xfrm>
            <a:off x="6400800" y="5029200"/>
            <a:ext cx="2521080" cy="166860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 rot="12480000">
            <a:off x="5435280" y="4064760"/>
            <a:ext cx="922320" cy="4431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49fff"/>
              </a:gs>
              <a:gs pos="100000">
                <a:srgbClr val="ef9100"/>
              </a:gs>
            </a:gsLst>
            <a:lin ang="199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1619280" y="620640"/>
            <a:ext cx="3095640" cy="71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措施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66680" y="175248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三）维持体温正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42920" y="2421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四）营养及水分的补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1066320" y="3123720"/>
            <a:ext cx="8077320" cy="17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．给予患儿营养丰富、易消化的半流质饮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．鼓励患儿多饮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．重症患儿不能进食时，采取静脉营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rcRect l="0" t="8642" r="0" b="24400"/>
          <a:stretch/>
        </p:blipFill>
        <p:spPr>
          <a:xfrm>
            <a:off x="5364000" y="4834080"/>
            <a:ext cx="2376720" cy="161928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3"/>
          <a:stretch/>
        </p:blipFill>
        <p:spPr>
          <a:xfrm>
            <a:off x="2700360" y="4869000"/>
            <a:ext cx="1871640" cy="1569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1258920" y="3931920"/>
            <a:ext cx="7200720" cy="25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2.   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密切观察有无腹胀、肠鸣音减弱或消失，以及呕吐的性质、有无便血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3.  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若患儿病情突然加重，出现烦躁不安、剧烈咳嗽、呼吸困难、胸痛、发绀、患侧呼吸运动受限，提示并发了脓胸或脓气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71640" y="2347920"/>
            <a:ext cx="7381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1.  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密切观察意识、瞳孔等变化，如患儿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现烦躁或嗜睡、惊厥、昏迷、呼吸不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则等，提示颅内压增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990720" y="17524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五）密切观察病情，防治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19280" y="620640"/>
            <a:ext cx="3095640" cy="71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措施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066320" y="2666520"/>
            <a:ext cx="77058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向家长讲解肺炎的治疗、护理要点，使家长能配合治疗和护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宣传肺炎预防的相关知识及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强调预防肺炎的关键是合理营养、加强锻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19320" y="190512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六）健康指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19280" y="620640"/>
            <a:ext cx="3095640" cy="71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措施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6324480" y="5504040"/>
            <a:ext cx="1584360" cy="1353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1103040" y="2243160"/>
            <a:ext cx="6853320" cy="32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经过治疗和护理患儿是否达到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无气促、发绀，呼吸恢复正常；呼吸道保持通畅，痰鸣音消失；体温恢复正常；患儿得到充足的营养，体重恢复正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19280" y="620640"/>
            <a:ext cx="3095640" cy="71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评价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7086600" y="4952880"/>
            <a:ext cx="1584360" cy="1314720"/>
          </a:xfrm>
          <a:prstGeom prst="rect">
            <a:avLst/>
          </a:prstGeom>
          <a:ln w="0">
            <a:noFill/>
          </a:ln>
        </p:spPr>
      </p:pic>
      <p:grpSp>
        <p:nvGrpSpPr>
          <p:cNvPr id="563" name=""/>
          <p:cNvGrpSpPr/>
          <p:nvPr/>
        </p:nvGrpSpPr>
        <p:grpSpPr>
          <a:xfrm>
            <a:off x="380520" y="5410080"/>
            <a:ext cx="8266320" cy="1268280"/>
            <a:chOff x="380520" y="5410080"/>
            <a:chExt cx="8266320" cy="1268280"/>
          </a:xfrm>
        </p:grpSpPr>
        <p:pic>
          <p:nvPicPr>
            <p:cNvPr id="564" name="" descr=""/>
            <p:cNvPicPr/>
            <p:nvPr/>
          </p:nvPicPr>
          <p:blipFill>
            <a:blip r:embed="rId3"/>
            <a:stretch/>
          </p:blipFill>
          <p:spPr>
            <a:xfrm flipH="1">
              <a:off x="5459040" y="5410080"/>
              <a:ext cx="847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" descr=""/>
            <p:cNvPicPr/>
            <p:nvPr/>
          </p:nvPicPr>
          <p:blipFill>
            <a:blip r:embed="rId4"/>
            <a:stretch/>
          </p:blipFill>
          <p:spPr>
            <a:xfrm flipH="1">
              <a:off x="2704680" y="5410080"/>
              <a:ext cx="847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" descr=""/>
            <p:cNvPicPr/>
            <p:nvPr/>
          </p:nvPicPr>
          <p:blipFill>
            <a:blip r:embed="rId5"/>
            <a:stretch/>
          </p:blipFill>
          <p:spPr>
            <a:xfrm flipH="1">
              <a:off x="3409920" y="5410080"/>
              <a:ext cx="8460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" descr=""/>
            <p:cNvPicPr/>
            <p:nvPr/>
          </p:nvPicPr>
          <p:blipFill>
            <a:blip r:embed="rId6"/>
            <a:stretch/>
          </p:blipFill>
          <p:spPr>
            <a:xfrm flipH="1">
              <a:off x="4177800" y="5410080"/>
              <a:ext cx="847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" descr=""/>
            <p:cNvPicPr/>
            <p:nvPr/>
          </p:nvPicPr>
          <p:blipFill>
            <a:blip r:embed="rId7"/>
            <a:stretch/>
          </p:blipFill>
          <p:spPr>
            <a:xfrm flipH="1">
              <a:off x="4754160" y="5410080"/>
              <a:ext cx="847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8"/>
            <a:stretch/>
          </p:blipFill>
          <p:spPr>
            <a:xfrm flipH="1">
              <a:off x="2063880" y="5410080"/>
              <a:ext cx="84744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9"/>
            <a:stretch/>
          </p:blipFill>
          <p:spPr>
            <a:xfrm flipH="1">
              <a:off x="1359000" y="5410080"/>
              <a:ext cx="84744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" descr=""/>
            <p:cNvPicPr/>
            <p:nvPr/>
          </p:nvPicPr>
          <p:blipFill>
            <a:blip r:embed="rId10"/>
            <a:stretch/>
          </p:blipFill>
          <p:spPr>
            <a:xfrm flipH="1">
              <a:off x="653760" y="5410080"/>
              <a:ext cx="847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" descr=""/>
            <p:cNvPicPr/>
            <p:nvPr/>
          </p:nvPicPr>
          <p:blipFill>
            <a:blip r:embed="rId11"/>
            <a:stretch/>
          </p:blipFill>
          <p:spPr>
            <a:xfrm flipH="1">
              <a:off x="380520" y="5410080"/>
              <a:ext cx="847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12"/>
            <a:stretch/>
          </p:blipFill>
          <p:spPr>
            <a:xfrm flipH="1">
              <a:off x="7027560" y="5410080"/>
              <a:ext cx="847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" descr=""/>
            <p:cNvPicPr/>
            <p:nvPr/>
          </p:nvPicPr>
          <p:blipFill>
            <a:blip r:embed="rId13"/>
            <a:stretch/>
          </p:blipFill>
          <p:spPr>
            <a:xfrm flipH="1">
              <a:off x="6322680" y="5410080"/>
              <a:ext cx="84780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" descr=""/>
            <p:cNvPicPr/>
            <p:nvPr/>
          </p:nvPicPr>
          <p:blipFill>
            <a:blip r:embed="rId14"/>
            <a:stretch/>
          </p:blipFill>
          <p:spPr>
            <a:xfrm flipH="1">
              <a:off x="7799040" y="5410080"/>
              <a:ext cx="847800" cy="1268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419640" y="189000"/>
            <a:ext cx="2355840" cy="71424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600" spc="-1" strike="noStrike">
                <a:solidFill>
                  <a:srgbClr val="cc0000"/>
                </a:solidFill>
                <a:latin typeface="黑体"/>
                <a:ea typeface="黑体"/>
              </a:rPr>
              <a:t>小 结</a:t>
            </a:r>
            <a:endParaRPr b="0" i="1" lang="en-US" sz="4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360" rIns="90360" tIns="44280" bIns="44280" anchor="t">
            <a:normAutofit/>
          </a:bodyPr>
          <a:p>
            <a:pPr marL="716040" indent="-71604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儿呼吸道的特异性和非特异性免疫功能均较差。婴幼儿鼻前庭无鼻毛，咳嗽反射、气道平滑肌收缩功能及纤毛运动功能均较差，不能有效地阻挡和清除吸入的尘埃及异物颗粒，故易患呼吸道感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6040" indent="-71604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急性上呼吸道感染是由各种病原引起的上呼吸道的急性感染性疾病。是小儿最常见的疾病，多由病毒感染引起，病原体主要侵犯鼻、咽、扁桃体及喉部而引起炎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6040" indent="-71604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急性支气管炎是指各种病原引起的支气管粘膜的急性炎症，发热、咳嗽、肺部闻及不固定的散在的干、湿啰音为其临床特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6040" indent="-71604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肺炎是由不同病原体或其他因素所引起的肺部炎症，临床上以发热、咳嗽、气促、呼吸困难和肺部固定湿啰音为主要表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95480" y="1216080"/>
            <a:ext cx="253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89080" y="2759040"/>
          <a:ext cx="6985080" cy="2243160"/>
        </p:xfrm>
        <a:graphic>
          <a:graphicData uri="http://schemas.openxmlformats.org/drawingml/2006/table">
            <a:tbl>
              <a:tblPr/>
              <a:tblGrid>
                <a:gridCol w="940680"/>
                <a:gridCol w="3282480"/>
                <a:gridCol w="276192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部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特点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临床意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</a:tr>
              <a:tr h="14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9688"/>
                          </a:solidFill>
                          <a:latin typeface="Times New Roman"/>
                          <a:ea typeface="黑体"/>
                        </a:rPr>
                        <a:t>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喉部呈漏斗状，相对狭窄，黏膜柔嫩而富有血管及淋巴组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炎症时出现局部充血、水肿，易引起呼吸困难和声音嘶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838080" y="182880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（一）解剖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557280"/>
            <a:ext cx="813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第一节  小儿呼吸系统解剖、生理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708000" y="404640"/>
            <a:ext cx="1940040" cy="619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200" spc="-1" strike="noStrike">
                <a:solidFill>
                  <a:srgbClr val="cc0000"/>
                </a:solidFill>
                <a:latin typeface="黑体"/>
                <a:ea typeface="黑体"/>
              </a:rPr>
              <a:t>思考题</a:t>
            </a:r>
            <a:endParaRPr b="0" i="1" lang="en-US" sz="4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69080" cy="452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360" rIns="90360" tIns="44280" bIns="44280" anchor="t">
            <a:normAutofit/>
          </a:bodyPr>
          <a:p>
            <a:pPr marL="71604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小儿患咽炎时为什么容易并发中耳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604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怎样做好上感高热患儿的护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604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如何给患哮喘性支气管炎的家长做健康指导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604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怎样保持急性支气管炎患儿呼吸道的通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604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请说出肺炎患儿有哪些主要表现？吸氧时要注意哪些问题？如何帮助患儿保持呼吸道通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选择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小儿上呼吸道感染常见的病原体是：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．肺炎双球菌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．肺炎支原体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．病毒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．真菌　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．原虫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989840" cy="39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  </a:t>
            </a:r>
            <a:r>
              <a:rPr b="1" lang="zh-CN" sz="3100" spc="-1" strike="noStrike">
                <a:solidFill>
                  <a:srgbClr val="000000"/>
                </a:solidFill>
                <a:latin typeface="宋体"/>
              </a:rPr>
              <a:t>呼吸道合胞病毒肺炎的临床特点是：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1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100" spc="-1" strike="noStrike">
                <a:solidFill>
                  <a:srgbClr val="000000"/>
                </a:solidFill>
                <a:latin typeface="宋体"/>
              </a:rPr>
              <a:t>．多见于</a:t>
            </a:r>
            <a:r>
              <a:rPr b="1" lang="zh-CN" sz="31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100" spc="-1" strike="noStrike">
                <a:solidFill>
                  <a:srgbClr val="000000"/>
                </a:solidFill>
                <a:latin typeface="宋体"/>
              </a:rPr>
              <a:t>岁以下的婴儿　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1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100" spc="-1" strike="noStrike">
                <a:solidFill>
                  <a:srgbClr val="000000"/>
                </a:solidFill>
                <a:latin typeface="宋体"/>
              </a:rPr>
              <a:t>．喘憋为突出表现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1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100" spc="-1" strike="noStrike">
                <a:solidFill>
                  <a:srgbClr val="000000"/>
                </a:solidFill>
                <a:latin typeface="宋体"/>
              </a:rPr>
              <a:t>．听诊有明显的哮鸣音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1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100" spc="-1" strike="noStrike">
                <a:solidFill>
                  <a:srgbClr val="000000"/>
                </a:solidFill>
                <a:latin typeface="宋体"/>
              </a:rPr>
              <a:t>．听诊有少量中小水泡音  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1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3100" spc="-1" strike="noStrike">
                <a:solidFill>
                  <a:srgbClr val="000000"/>
                </a:solidFill>
                <a:latin typeface="宋体"/>
              </a:rPr>
              <a:t>．以上都正确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金黄色葡萄球菌肺炎患儿突然出现呼吸急促，首先应考虑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高热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肺炎加重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心力衰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脓气胸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气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症肺炎患儿发生腹胀是由于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低钠血症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消化不良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中毒性麻痹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低钾血症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低血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7846920" cy="360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儿肺炎合并心力衰竭的判断要点不包括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突然极度烦躁不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呼吸突然加快，超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／分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心率突然超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／分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面色苍白或紫绀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肝肋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5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小儿患咽炎时为什么容易并发中耳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上感患儿发生高热时应怎样进行护理？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哮喘性支气管炎具有哪些特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请说出肺炎合并心衰有哪些主要表现？吸氧时要注意哪些问题？如何帮助患儿保持呼吸道通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2" name=""/>
          <p:cNvGraphicFramePr/>
          <p:nvPr/>
        </p:nvGraphicFramePr>
        <p:xfrm>
          <a:off x="0" y="4876920"/>
          <a:ext cx="914400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87692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"/>
          <p:cNvSpPr txBox="1"/>
          <p:nvPr/>
        </p:nvSpPr>
        <p:spPr>
          <a:xfrm>
            <a:off x="395280" y="2565360"/>
            <a:ext cx="799308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6666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谢谢！</a:t>
            </a:r>
            <a:endParaRPr b="0" lang="en-US" sz="5400" spc="1" strike="noStrike">
              <a:ln w="19080">
                <a:solidFill>
                  <a:srgbClr val="6666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95" name=""/>
          <p:cNvSpPr/>
          <p:nvPr/>
        </p:nvSpPr>
        <p:spPr>
          <a:xfrm>
            <a:off x="2340000" y="404640"/>
            <a:ext cx="590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4"/>
          <a:stretch/>
        </p:blipFill>
        <p:spPr>
          <a:xfrm>
            <a:off x="6516720" y="0"/>
            <a:ext cx="2235240" cy="216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95480" y="1216080"/>
            <a:ext cx="253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173240" y="2421000"/>
          <a:ext cx="7287840" cy="3771360"/>
        </p:xfrm>
        <a:graphic>
          <a:graphicData uri="http://schemas.openxmlformats.org/drawingml/2006/table">
            <a:tbl>
              <a:tblPr/>
              <a:tblGrid>
                <a:gridCol w="1283400"/>
                <a:gridCol w="3122640"/>
                <a:gridCol w="2881800"/>
              </a:tblGrid>
              <a:tr h="95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部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特点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临床意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</a:tr>
              <a:tr h="281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9688"/>
                          </a:solidFill>
                          <a:latin typeface="Times New Roman"/>
                          <a:ea typeface="黑体"/>
                        </a:rPr>
                        <a:t>气管、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9688"/>
                          </a:solidFill>
                          <a:latin typeface="Times New Roman"/>
                          <a:ea typeface="黑体"/>
                        </a:rPr>
                        <a:t>支气管</a:t>
                      </a:r>
                      <a:r>
                        <a:rPr b="0" lang="zh-CN" sz="3000" spc="-1" strike="noStrike">
                          <a:solidFill>
                            <a:srgbClr val="009688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管腔相对狭窄，黏膜血管丰富，软骨柔软，缺乏弹力组织；粘液腺分泌不足，气道较干燥，纤毛运动差，清除能力弱。右支气管粗短，为气管的直接延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气管、支气管易于感染，并可导致呼吸道阻塞；发生气管异物时易进入右支气管，引起右肺不张和肺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762120" y="17524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（一）解剖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557280"/>
            <a:ext cx="813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第一节  小儿呼吸系统解剖、生理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43000" y="1905120"/>
            <a:ext cx="254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76480" y="2463840"/>
          <a:ext cx="6984720" cy="3006720"/>
        </p:xfrm>
        <a:graphic>
          <a:graphicData uri="http://schemas.openxmlformats.org/drawingml/2006/table">
            <a:tbl>
              <a:tblPr/>
              <a:tblGrid>
                <a:gridCol w="893160"/>
                <a:gridCol w="3329280"/>
                <a:gridCol w="2762280"/>
              </a:tblGrid>
              <a:tr h="81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部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特点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临床意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688"/>
                    </a:solidFill>
                  </a:tcPr>
                </a:tc>
              </a:tr>
              <a:tr h="219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9688"/>
                          </a:solidFill>
                          <a:latin typeface="黑体"/>
                          <a:ea typeface="黑体"/>
                        </a:rPr>
                        <a:t>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弹力纤维发育差，血管丰富，毛细血管及淋巴组织间隙较成人宽，间质发育旺盛；肺泡小且数量少，使其含血量相对多而含气量少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部易感染，易引起间质性炎症、肺不张或肺气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62120" y="18288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（一）解剖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557280"/>
            <a:ext cx="813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第一节  小儿呼吸系统解剖、生理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2:43:58Z</dcterms:modified>
  <cp:revision>319</cp:revision>
  <dc:subject/>
  <dc:title>Lorem Ipsum</dc:title>
</cp:coreProperties>
</file>